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8D8E-208C-406A-9721-61F4A9717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C49F-2B0E-4D45-A00A-22BF8258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54D5-BBA2-4A98-8E67-327916D69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0B71-C746-492B-999F-0C94DF82C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4898-F030-4235-AA93-E6F1B5B3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8860-FDB5-40DB-A0BD-A4680F3A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3270-C8A9-40B6-9B7A-400605DE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F891-96C0-4C8A-A41C-C6729E06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BCB4-5EA7-49C5-9FB0-6B2A7E7E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0FF9-5BF7-4029-8768-4732D842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88F7-E10E-4D7F-AC91-44BB8A2F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0916-FA1B-4058-BB3C-217AA760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B918-2504-40B0-B0CD-AC4EF07CEE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236000" y="4724280"/>
            <a:ext cx="1904760" cy="1773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93200" y="4952880"/>
            <a:ext cx="100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3800" y="4724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47600" y="5222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3960" y="4876920"/>
            <a:ext cx="1752840" cy="1704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24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Séminaire International UNESCO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uagadougou 13-17 mars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447920"/>
            <a:ext cx="8001000" cy="1861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Dialogue politique et stratégies de mise en œuvre du changement du curricul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rganisé par l’UNESCO (BIE, ED/STV, ED/HED, Bamako), le Ministère de l’Enseignement de Base et de l’Alphabétisation (MEBA) et la Commission Nationale UNESCO du Burkina F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4160" y="3505320"/>
            <a:ext cx="67932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nthèse des résultats 2004-200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pistes à privilég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istine Panchaud - B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our passer du « quoi » au « comment »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uccès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et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durabilité des changement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ision globale et systém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lusieurs changements cohérents et concertés, en accord avec la vision glob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adership et distribution des tâ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laire définition des étapes - scénarios alterna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atégies particip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nitoring et évaluation intégrés au proc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bilisation des moyens adéqu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5943600"/>
            <a:ext cx="655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ème séminaire international UNESCO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uagadougou, 13-17 mars 200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hèse des résultats 2004-2005: les pistes à privilég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080" y="606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924680" y="5715000"/>
            <a:ext cx="990720" cy="838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880" y="457200"/>
            <a:ext cx="81536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our passer du « quoi » au « comment »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&gt;&gt;&gt; Accord négocié et partagé sur 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objectifs et les moy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cteurs? leurs rôle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locages? opportunité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à quel(s) niveaux et de quelle(s) nature(s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5943600"/>
            <a:ext cx="655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ème séminaire international UNESCO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uagadougou, 13-17 mars 200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hèse des résultats 2004-2005: les pistes à privilég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080" y="606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924680" y="5715000"/>
            <a:ext cx="990720" cy="838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0880" y="457200"/>
            <a:ext cx="81536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34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es pistes définies dans «</a:t>
            </a: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 Voices of the poor -</a:t>
            </a:r>
            <a:br>
              <a:rPr sz="2800"/>
            </a:b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 can anyone hear us? 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»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Banque Mondiale 2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’importance d’impliquer les membres de la communau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’alphabétisation avant toute ch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compértences pertin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dimension du genre, encore ell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’apprentissage dans la langue matern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dimensions psychologiques de la pauvre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entrepreneurship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5943600"/>
            <a:ext cx="655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ème séminaire international UNESCO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uagadougou, 13-17 mars 200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hèse des résultats 2004-2005: les pistes à privilég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080" y="606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924680" y="5715000"/>
            <a:ext cx="9907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34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es pistes définies par le projet BIE -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ertinence de la réponse politique et stratég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alité des documents curriculai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ertinence du cadre curricul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novations pédagogiques à court et à long te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pports de l’éducation non formell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5943600"/>
            <a:ext cx="655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ème séminaire international UNESCO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uagadougou, 13-17 mars 200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hèse des résultats 2004-2005: les pistes à privilég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9080" y="606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924680" y="5715000"/>
            <a:ext cx="9907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34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es pistes définies par le projet BIE -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urriculum et éducation des fi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ngues d’enseignement et enseigné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’approche par compé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élection et organisation des apprenti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ormation des enseign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valuation des résultats scol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ssources pédagog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5943600"/>
            <a:ext cx="655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ème séminaire international UNESCO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uagadougou, 13-17 mars 200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hèse des résultats 2004-2005: les pistes à privilég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9080" y="606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924680" y="5715000"/>
            <a:ext cx="9907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34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r rapport à la lutte contre la pauvret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spects essentiels oubliés ou négligé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rop d’importance donnés à certains aspec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istes les plus utiles? Pourquo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istes les moins praticables ou les plus difficiles? Pourquo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ints à retravailler absolu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tc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5943600"/>
            <a:ext cx="655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ème séminaire international UNESCO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uagadougou, 13-17 mars 200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hèse des résultats 2004-2005: les pistes à privilég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080" y="606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924680" y="5715000"/>
            <a:ext cx="9907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16:25:22Z</dcterms:created>
  <dc:creator>c_panchaud</dc:creator>
  <dc:description/>
  <dc:language>en-US</dc:language>
  <cp:lastModifiedBy>p_decastro</cp:lastModifiedBy>
  <cp:lastPrinted>2004-11-26T16:40:40Z</cp:lastPrinted>
  <dcterms:modified xsi:type="dcterms:W3CDTF">2008-04-14T13:24:54Z</dcterms:modified>
  <cp:revision>199</cp:revision>
  <dc:subject/>
  <dc:title>Meeting on Global Initiative for Prevention Education</dc:title>
</cp:coreProperties>
</file>