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BB9-A7B6-4FD0-BBF9-40BAC6C2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352-E376-45C3-B5ED-50C2F368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53A-BC96-425D-930E-C17EDB2A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9FD-61C5-40A6-9D79-A78FE3C1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145-6FCA-4B2E-8308-960603D6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36C-D627-4190-AA11-C666ACA3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646-3F0C-4B0B-AB24-62431643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057-6AA2-4B74-9B4D-40CCA613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5325-2260-40EE-B9DA-75BC4912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BB7-DB1A-4AF0-BEF0-DA92A412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B2E-E3B9-4778-93AE-1EB0F168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A96-AF7E-4064-B5C7-19E4ABE2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57F1-2A3B-415B-8E9D-4D89714AF8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36000" y="4724280"/>
            <a:ext cx="1904760" cy="1773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93200" y="4952880"/>
            <a:ext cx="100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3800" y="4724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47600" y="522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3960" y="4876920"/>
            <a:ext cx="1752840" cy="170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Séminaire International UNESCO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uagadougou 13-17 mars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447920"/>
            <a:ext cx="8001000" cy="186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ialogue politique et stratégies de mise en œuvre du changement du curricu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ganisé par l’UNESCO (BIE, ED/STV, ED/HED, Bamako), le Ministère de l’Enseignement de Base et de l’Alphabétisation (MEBA) et la Commission Nationale UNESCO du Burkina F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4160" y="3505320"/>
            <a:ext cx="6793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hèse des résultats 2004-200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pistes à privilég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ne Panchaud - B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ur passer du « quoi » au « comment 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uccès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urabilité des changeme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ision globale et systé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usieurs changements cohérents et concertés, en accord avec la vision glo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adership et distribution des tâ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laire définition des étapes - scénarios alterna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tégies particip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nitoring et évaluation intégrés au proc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bilisation des moyens adéqu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9436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ème séminaire international UNESCO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agadougou, 13-17 mars 2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èse des résultats 2004-2005: les pistes à privilég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08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9072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457200"/>
            <a:ext cx="8153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ur passer du « quoi » au « comment 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&gt;&gt;&gt; Accord négocié et partagé sur 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et les moy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teurs? leurs rô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ocages? opportunité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à quel(s) niveaux et de quelle(s) nature(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59436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ème séminaire international UNESCO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agadougou, 13-17 mars 2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èse des résultats 2004-2005: les pistes à privilég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08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90720" cy="83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457200"/>
            <a:ext cx="8153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pistes définies dans «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 Voices of the poor -</a:t>
            </a:r>
            <a:br>
              <a:rPr sz="2800"/>
            </a:b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 can anyone hear us? 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Banque Mondiale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importance d’impliquer les membres de la communau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alphabétisation avant toute c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compértences perti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dimension du genre, encore el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apprentissage dans la langue matern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dimensions psychologiques de la pauvre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entrepreneurship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59436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ème séminaire international UNESCO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agadougou, 13-17 mars 2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èse des résultats 2004-2005: les pistes à privilég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08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pistes définies par le projet BIE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rtinence de la réponse politique et straté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alité des documents curriculai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rtinence du cadre curricul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novations pédagogiques à court et à long te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pports de l’éducation non formel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59436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ème séminaire international UNESCO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agadougou, 13-17 mars 2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èse des résultats 2004-2005: les pistes à privilég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08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pistes définies par le projet BIE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urriculum et éducation des f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ngues d’enseignement et enseig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approche par compé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élection et organisation des apprenti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rmation des enseig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valuation des résultats scol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ssources pédagog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9436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ème séminaire international UNESCO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agadougou, 13-17 mars 2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èse des résultats 2004-2005: les pistes à privilég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08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 rapport à la lutte contre la pauvret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spects essentiels oubliés ou négligé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op d’importance donnés à certains aspe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s les plus utiles? Pourquo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s les moins praticables ou les plus difficiles? Pourquo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ints à retravailler absol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c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59436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ème séminaire international UNESCO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agadougou, 13-17 mars 2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èse des résultats 2004-2005: les pistes à privilég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08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6:25:22Z</dcterms:created>
  <dc:creator>c_panchaud</dc:creator>
  <dc:description/>
  <dc:language>en-US</dc:language>
  <cp:lastModifiedBy>p_decastro</cp:lastModifiedBy>
  <cp:lastPrinted>2004-11-26T16:40:40Z</cp:lastPrinted>
  <dcterms:modified xsi:type="dcterms:W3CDTF">2008-04-14T12:18:11Z</dcterms:modified>
  <cp:revision>199</cp:revision>
  <dc:subject/>
  <dc:title>Meeting on Global Initiative for Prevention Education</dc:title>
</cp:coreProperties>
</file>