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F71-1054-497A-A872-E10011F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BB7-5706-4777-87D7-D6EAEA6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37E-2D79-4D2F-8FCA-CF02DF4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B46-369D-4C1E-88B2-A1E15377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516D-1C05-4B47-8410-E1A1CDB9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AE64-97A5-4904-850D-D0F05491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5FEB-1D4C-4224-A13F-5CF1A0EE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1701-8801-4F6B-BB6B-AD1BE13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8077-91D5-4A3A-B496-8AD40F2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D0C0-8E72-45F7-984F-7B0F58A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081F-E4AC-4BDB-900A-56D8EDB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1F4-C811-410E-AEC0-3BA1674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49E-F9E0-47A6-8454-57069CD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3D5A-63CC-403B-B06A-71D703A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0D7A-A520-43E1-A2E6-09B015F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123-770A-4BDC-BA62-DA88C493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FA8-497E-46EF-A460-D499A05B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498-2153-4E15-8DD6-3919470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5FB-1975-4E2D-A4C4-7A0D5DE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9B1-82E0-4B41-B6CD-26D74A9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A52-51DA-430E-BE07-070CEE5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437-CA5D-46FF-984F-B475D9C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F28-03B2-430D-BD5A-0033083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F27-8F46-4FB0-8CE3-29297F4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6F1-79AF-4F15-926A-9192926218A8}" type="datetime">
              <a:rPr b="0" lang="fr-FR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7C4-1489-49EF-9248-617CCEA8AB67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C4A-E945-467E-9B66-35C193F60A59}" type="datetime">
              <a:rPr b="0" lang="fr-FR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9DE-A146-4A0B-BE97-668DF623B93E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OUP DISCUSS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3E20-42D2-47BF-BD5B-AC5F4CB8C3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7F87FD-AE6F-4082-812D-AF3A8D4B9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o exchange on achievements and future pro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o learn from others’ experiences (i.e. Malaysia; Egypt, Jor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o put together some lines of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5F9-712B-43A8-B2FF-B4100E537E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A43D0-536B-421D-A42F-32C164C3D8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URRICULUM ANALYSIS AND EVALU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A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E SCIENCE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A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E. ROTE MEMORI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C43-313A-4B7A-8A75-53D0F712086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A79D3-1807-499D-9A5E-618B66A5F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SHOULD BE CONSIDER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 NEW EDUCATION PHILOSOPHY UNDERLYING CURRICULU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BALANCE OF THE CURRICULUM (i.e. more arts – inclusion of cultural aspects, physical educ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Balance between tradition and innovation – innovation should grow organically, it should not be impo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BB7-C76D-4144-8623-ED8369F4A8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9B920-BA0F-445C-8464-FEF4C9F05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SHOULD BE AVOID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OADING THE 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NECESSARY REPETITIONS AND G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DATED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G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1B1-3BC1-4840-92CC-1A42571AD6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C166D-DFFB-481F-A509-AE9E330D19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AS NOT DISCUSS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URRICULUM ACTUALLY MEAN? DO WE HAVE THE SAME UNDERSTAND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STRUCTURE &amp; CURRICULUM STRUCTURE AND 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URRICULUM MODE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86C-A4F5-46DE-B39C-8764459B3F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14F2B-E428-4144-914E-C7BFCBD148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WE NE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 FOR CURRICULUM DEVELOPMENT INCORPORATING THE NEW EDUCATION PHILOS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ACITY BUILDING &amp; MODERN INSTITUTIONAL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LINKS WITH TEACHER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LINKS BETWEEN THEORY AND PRACTICE\VOCATIONAL A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180-CBE7-4598-9055-B2B29ED78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15276-EBC7-45FA-ABBD-37446CA9C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WE NE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T CLEAR OBJECTIVES AND TO DEFINE LEARNING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WORKING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A8D-DD2F-4391-B50B-BF5293AA8E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31A7F-F54F-4524-90F8-ABC1CA5985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3:29:54Z</dcterms:created>
  <dc:creator>DIT/TEL</dc:creator>
  <dc:description/>
  <dc:language>en-US</dc:language>
  <cp:lastModifiedBy>i_byron</cp:lastModifiedBy>
  <dcterms:modified xsi:type="dcterms:W3CDTF">2006-04-18T11:56:26Z</dcterms:modified>
  <cp:revision>4</cp:revision>
  <dc:subject/>
  <dc:title>GROUP DISCUSSION</dc:title>
</cp:coreProperties>
</file>