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AA8-0A72-4882-8406-82578592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477-700A-415E-84D9-DBB87853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AEE-50B1-4E57-8E3A-E548829E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421-CEA4-484B-8EB9-F740C2E4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2B2-E2D9-4B13-B36B-4C99EB2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A28-C359-44E7-BD08-26EB0B75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0B6E-9FD2-4B78-A237-96164BC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806C-8437-4DBF-8B88-19DB042F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98B1-F68C-4A63-A9AE-5EEE965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DABA-010C-43BE-8470-691CB94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7B4-E602-4612-960A-1926248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F53-5EC8-4CB4-8469-D8E5B51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2DB-633B-4F41-9DC2-AEFF83E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4E65-9F02-42AF-89D2-A76F73A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BE0-1986-4F2D-A8A7-343E03CE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D4E3-C933-4761-B343-1054CBCE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307-2C0F-4840-ABD6-377CBDFB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08C-3B9B-49F1-86FF-A453FD74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9D5-F122-4D7F-9636-65ACF032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04E-5BFC-4B80-9E4B-1664EB8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CE0-C56E-46E8-8BE4-6C20A0C2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EC0-31C4-4702-9892-925869D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4E7-6EB8-4F5E-8FAB-59F0204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B0B-06C7-4C0A-9C51-E099552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6EE-3328-4CA6-B355-77458CF19FE5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DAC-E372-490C-89E6-CC933E67B224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560" y="549360"/>
            <a:ext cx="65134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Towards a new education system for rebuilding the Iraqi society: from vision to practice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SYNTHESIS OF DISCUS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DAY 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05A7-7E5B-49B1-A949-2A04EDEB36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cc"/>
                </a:solidFill>
                <a:latin typeface="Arial"/>
              </a:rPr>
              <a:t>OPENESS and BAL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To be open to the world, while taking stok of valuable local traditions and experien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To learn from others, but to come up with creative solutions that ought to fit the Iraqi conte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4A0-4698-4596-B0D7-7671D76807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cc"/>
                </a:solidFill>
                <a:latin typeface="Arial"/>
              </a:rPr>
              <a:t>Education policy messag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 u="sng">
                <a:solidFill>
                  <a:srgbClr val="eaeaea"/>
                </a:solidFill>
                <a:uFillTx/>
                <a:latin typeface="Verdana"/>
              </a:rPr>
              <a:t>What are the ‘big’ policy questions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? 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Systemic/comprehensive vision reflected in 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consensual docume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Curriculum arrangements within a federal 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system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Professionaling curriculum wor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fr-CH" sz="2000" spc="-1" strike="noStrike">
                <a:solidFill>
                  <a:srgbClr val="eaeaea"/>
                </a:solidFill>
                <a:latin typeface="Verdana"/>
              </a:rPr>
              <a:t>Management of curriculum proces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Institutional structur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Ressources and plan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(short-, medium- and long-term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Design and implementat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fr-CH" sz="1800" spc="-1" strike="noStrike">
                <a:solidFill>
                  <a:srgbClr val="eaeaea"/>
                </a:solidFill>
                <a:latin typeface="Verdana"/>
              </a:rPr>
              <a:t>Sustainabil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7A4-079C-4A94-A440-95C4D1357E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CONSENSUS BUIL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Identifying issues that people agree upon (i.e. cross-cutting themes in the curriculum: ICT; HRE &amp; Citizenship; Environmental education; Gender dimensions; life-long learning; adult educatio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Identifying controversial issues and tackling them effective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844-A62F-4846-8651-1257A91C09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cc"/>
                </a:solidFill>
                <a:latin typeface="Arial"/>
              </a:rPr>
              <a:t>Education poli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Does not mean politizing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From vision to practi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Monitoring and evalu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Quality assurance and quality contro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eaeaea"/>
                </a:solidFill>
                <a:latin typeface="Verdana"/>
              </a:rPr>
              <a:t>Education systems as societal proj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531-DCE7-4CF6-9A1B-D2E2E75038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DUCATION REFOR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rucial need, as a basis for rebuilding the Iraqi socie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Links between education and economic &amp; societal develop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ain aim: to foster the development of persons, as both knowledgeable, creative, open-minded, tolerant and moral individuals, and active members of a democratic and open community/socie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rong political will and determination/commitment of all stakehold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xtremely difficult con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97C-0AB6-4E79-B674-F80C5FBE9B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EDUCATION REFORM: achievements to dat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ntinuous delivery of education servi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Education polic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Reform ai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Strategies and mechanis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riteria and priori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Institutional sup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DAE-77C7-4B05-8C08-5F6926D58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DUCATION REFORM: achievements to dat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ffective partnersh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ffective chang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extbook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eacher train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ducation infrastructure/Schoo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rehabili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chool manage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ome parts of the curriculum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(ICT; Environment education;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Human Rights and Citizenship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ducation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Vocational educ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522-5603-4275-A4CF-5BB0E46A3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UTURE PROSPEC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etting priorities: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urriculum development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(given its importance for knowledge, skills and character buildin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ll the other components of the education system ought to be tackled in correlation with curriculum develo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901-BE22-46B9-9788-86C9D859E2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UTURE PROSPEC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Using the momentum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New Constit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Upcoming ele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Building national consensu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aining professional and public support for curriculum change and implem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ddressing needs and challenges accurately, timely and realistic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05A-4EA7-4DBE-AC42-929A06AB0E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EANINGFUL AND EFFECTIVE PARTNERSHIP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Internal dialogue and partnerships: participation and inclus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upport from international partners/Cluster approach (UNESCO, UNICEF, USAID, World Bank, donor countries: i.e. Japan, etc.): programme/project design; funding; technical assistance for capacity build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UNESCO’s pro-active ro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he International conference is a sheer reflection of such existing effective partnerships and inclusive approach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238-3057-45B6-AEB7-E577C43126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cc"/>
                </a:solidFill>
                <a:latin typeface="Arial"/>
              </a:rPr>
              <a:t>CONDITIONS FOR SUCCESSFUL PARTNERSHIP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Solide and coherent education polic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Adequate legal frame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Legitimacy and compet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Human and financial ressou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Team spirit and positive attitu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eaeaea"/>
                </a:solidFill>
                <a:latin typeface="Verdana"/>
              </a:rPr>
              <a:t>Effective communi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988-311E-4EDD-8098-3A101B32DE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cc"/>
                </a:solidFill>
                <a:latin typeface="Arial"/>
              </a:rPr>
              <a:t>EFEFCTIVE PARTNERSHIPS amongts education reform acto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Govern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Civil socie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Busines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5DD-6204-4EAE-91F3-2E2668CD67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-9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4:39:41Z</dcterms:created>
  <dc:creator>BIE</dc:creator>
  <dc:description/>
  <dc:language>en-US</dc:language>
  <cp:lastModifiedBy>i_byron</cp:lastModifiedBy>
  <dcterms:modified xsi:type="dcterms:W3CDTF">2006-04-18T11:55:37Z</dcterms:modified>
  <cp:revision>22</cp:revision>
  <dc:subject/>
  <dc:title>Designing modern education systems</dc:title>
</cp:coreProperties>
</file>