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A227-EEEA-49E7-8AE6-AC7B6F36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66B-360F-4B37-B435-A5B2AB7F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F87-6BDA-4BB9-BCAC-B62225E4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A1D-0FFB-4EAA-899A-CDA3A6A3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5644-1868-4E90-AC9F-19A1DC6C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99DA-2228-44F1-ADBA-4C568E69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EBC2-3570-4171-BED5-0D7B50C7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C770-3F1E-4F82-8EEA-6BC1F45D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E9A7-9A1B-44D0-9591-9478073E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D00A-9E8C-489D-89A8-E28E68AA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F3CA-053D-4E49-80B6-3D20CCD9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7B7-16F1-4E09-8B61-1202EDAE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E999-CE42-4910-BA09-FFB49E27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92BD-EE9E-41F2-9979-0A232F54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1032-354E-41FE-962F-3600F5B6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C76A-22FB-4A8E-8734-22C59FF7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6AF5-8780-488B-B133-2D5919CE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B54-5497-4A0D-BC58-7CB0DD81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1FF-B11A-4B05-9D14-340731CC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CA6-9A2D-498E-BC9B-EF814A04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388-0634-41DB-9C29-67EBE77E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AB1-4D2D-4468-8B14-029D7743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1FC-EE6A-4DD6-A69A-CC7E67B6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AD7-62F2-44FC-B529-4EE9DB55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A8B9-1955-4D67-A3FE-6649CFCF2A6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4F5D-5763-4C2B-9BCF-5EE5F5FFBFA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ahoma"/>
              </a:rPr>
              <a:t>Overview of the IBE education/curriculum programm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UNESCO Workshop – Kharto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13-15 March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BE 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E385-AEF4-43F1-A7E5-A6F4F03E35B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3-15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291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ahoma"/>
              </a:rPr>
              <a:t>Algeria (2003 – 2004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915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Revising the national Curriculum Framework in the light of a competencies-based appro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Textbook production and evaluation in line with the requirements of the Curriculum Framework and of the national legislation promoting quality education for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BE 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DD0-979D-4C44-A0B9-B402E528B9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5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82915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GULF countries </a:t>
            </a:r>
            <a:br>
              <a:rPr sz="4000"/>
            </a:b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(ABEGS – GASERC project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Yearly and weekly time al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Curriculum inte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Usage of ‘electronic Tools’ in the context of capacity building for curriculum speci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BE 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C17-02CB-401D-A519-74A83C0B3A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5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80880"/>
            <a:ext cx="81471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Kuwai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Secondary Education Reform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Changes of the education structure (from 4+4+4 to 6+3+3) and curriculum impr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Teaching and learning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Improvement of the evaluation and certification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BE 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1AA-C221-4683-9EDE-5DB289DD8C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5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ahoma"/>
              </a:rPr>
              <a:t>“</a:t>
            </a:r>
            <a:r>
              <a:rPr b="1" lang="en-US" sz="4800" spc="-1" strike="noStrike">
                <a:solidFill>
                  <a:srgbClr val="ff9933"/>
                </a:solidFill>
                <a:latin typeface="Tahoma"/>
              </a:rPr>
              <a:t>International trends”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62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What does this mea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Good policies and practices” in countries that are economically developed and/or do well in international comparisons (e.g. PISA; UNESCO EFA Monitoring Report 2005): Finland, Canada, South Korea, Cu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There are different roads leading to success – yet the “success”</a:t>
            </a:r>
            <a:r>
              <a:rPr b="1" lang="en-US" sz="36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concept has to be explored more clos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BE 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3D7-1813-4703-9D22-54EE023472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5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ahoma"/>
              </a:rPr>
              <a:t>“</a:t>
            </a:r>
            <a:r>
              <a:rPr b="1" lang="en-US" sz="4800" spc="-1" strike="noStrike">
                <a:solidFill>
                  <a:srgbClr val="ff9933"/>
                </a:solidFill>
                <a:latin typeface="Tahoma"/>
              </a:rPr>
              <a:t>International trends”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Education innovations/practices based on research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Practices that people value because they invest in them hope &amp; high expec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BE 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536-E44A-4F97-9C9E-FCCE8E54E6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5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ahoma"/>
              </a:rPr>
              <a:t>IBE Programm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Policy dialo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Capacity building (“community of practitioners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International Education Observa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Technical assistance to member states (curriculum develop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Curriculum and poverty allev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HIV/AIDS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BE 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AC8-4280-477C-8276-B2509AA259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5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ahoma"/>
              </a:rPr>
              <a:t>Technical assistance to member states (curriculum development)</a:t>
            </a:r>
            <a:br>
              <a:rPr sz="40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Tahoma"/>
              </a:rPr>
              <a:t>Transition and post-conflict contexts (Kosovo, Bosnia and Herzegovina, Afghanistan, Algeria, Caucasus Reg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Tahoma"/>
              </a:rPr>
              <a:t>Countries that are in the course of improving their education systems (Gulf Region: ABEGS; Kuwait; Argentina: Campana 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BE 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65E-8C46-4C46-9827-86A825DA82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5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Transition &amp; Post-conflict contex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362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Kosovo (2000-2001</a:t>
            </a:r>
            <a:r>
              <a:rPr b="1" lang="en-US" sz="1800" spc="-1" strike="noStrike">
                <a:solidFill>
                  <a:srgbClr val="ff9933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Development of a new Curriculum Framework for primary and secondary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(RE) defining the criteria for </a:t>
            </a:r>
            <a:r>
              <a:rPr b="1" lang="en-US" sz="2800" spc="-1" strike="noStrike" u="sng">
                <a:solidFill>
                  <a:srgbClr val="ff9933"/>
                </a:solidFill>
                <a:uFillTx/>
                <a:latin typeface="Tahoma"/>
              </a:rPr>
              <a:t>a quality curricul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Definition of the ‘core curriculum’ in terms of both education inputs and </a:t>
            </a:r>
            <a:r>
              <a:rPr b="1" lang="en-US" sz="2800" spc="-1" strike="noStrike" u="sng">
                <a:solidFill>
                  <a:srgbClr val="ff9933"/>
                </a:solidFill>
                <a:uFillTx/>
                <a:latin typeface="Tahoma"/>
              </a:rPr>
              <a:t>learning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BE 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5BB-5782-483B-8C78-E0C64B7DAD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5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1844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Basic principles of the new curriculu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Need for a comprehensive ‘education vision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Common core’ and local curricul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Student-centred curricul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Respect of pluralism and d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Integration of new education dimens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Constructive approach of the identity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A modern concept of learning (relevant, integrated and holisti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Focus on competences to face today’s world challenges and possib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BE 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58A-BEB9-4D58-AC4E-3F7293D02E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5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Bosnia and Herzegovina </a:t>
            </a:r>
            <a:br>
              <a:rPr sz="4000"/>
            </a:b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(2003-2004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Modernisation and harmonisation of a diverse curriculum (13 Ministries of Edu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Defining the ‘core curriculum’ not just in terms of content (pre-fabricated information) but (also) in terms of student competen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Quality processes and products: how to balance tradition and inno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BE 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2CE-3D60-4C11-9747-BD4B4DF614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5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Caucasus Region (Armenia, Azerbaijan, Georgia): 200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915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Teacher training and curriculum re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Pre-service teacher training and in-service teacher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</a:rPr>
              <a:t>How can curriculum documents orient teach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BE UNES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61D-B0D6-4DCD-8C2A-9F50442930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-15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3:03:41Z</dcterms:created>
  <dc:creator>BIE</dc:creator>
  <dc:description/>
  <dc:language>en-US</dc:language>
  <cp:lastModifiedBy>i_byron</cp:lastModifiedBy>
  <dcterms:modified xsi:type="dcterms:W3CDTF">2006-04-13T14:04:10Z</dcterms:modified>
  <cp:revision>8</cp:revision>
  <dc:subject/>
  <dc:title>Overview of the IBE education/curriculum programmes</dc:title>
</cp:coreProperties>
</file>