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997-585D-40D1-8CB6-92C3804C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192-588D-4241-A244-DCC22EC1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C86-106F-46EA-BEDB-9AAFCBB6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389-ACE1-4C17-8FC3-FA33A14A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4B0-75EF-4802-86BF-1BD7F62D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E413-0DBD-4F7B-92EB-4EB72A87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DC7-D13C-4122-9A35-E85B4650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CCA0-D671-4E43-A3AE-47A61DE5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1C0D-141B-4278-BC27-2FEE63FE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580C-7E5E-481A-92E6-3C3E7E02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3920-2D8A-45D0-9A7D-FE4002A3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4A9-210A-4440-826D-D8195EFC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54C3-AB5F-4396-AC1C-D451662D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1963-1EED-4BCE-A36F-D529CCE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950E-84EF-4DB8-B2D9-9DC163A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D294-CE9B-48DD-AC6D-3133D1C3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4A3E-8CE6-46D3-9FCB-9242A762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734-C8CC-4FC6-8481-BF441FF3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2EA-A8CA-4553-BEC3-8F3A842F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52A-EB13-4724-A571-6B0BF3E4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A95-410D-4156-A3AC-942C773C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851-7C9D-429A-9F49-CED727B9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727-B4AF-4840-B36D-206E42D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665-3F51-4686-94C2-2AD1DCA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EC73-4F6A-47CF-ACF4-EB8135E8E06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7628-158A-4F1D-B128-7B757B0701A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REPOR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ROUP 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CURRICULUM, TEXTBOOKS, TEACHER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6CF0-7933-48EF-A7D1-0AE9782780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5. Inter-agency cooperation and network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inu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stain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me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ear division of ta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ow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e.g. SWAP – sharing resources, tools, consultants; joint projects/action; exchanges; assisting the government on long-ter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764-B7FE-4970-A526-177B6A1C39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6. Conclusions and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. Visioning exercis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(vision helps you 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. Taking stock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where we are… (curriculum assessment; TT; assessing processes and produc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3. SWAP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things that we can do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916-1D25-4495-A326-5D8C04CAF8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onclusions and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4. Technical assistanc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capacity building (MoE; Curriculum &amp; textbook development; TT; Institutional develop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5. Developing a Curriculum Framewor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(common quality standards; unity and divers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6. Improve dialogue with stakeh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191-8490-4331-9D43-2C646BBE19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Follow-up to the workshop and new ste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solidated work plan for short-, medium- and long-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stitutiona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3AD-8702-4650-AFAE-ADADEEBC45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articip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E (Secondary education; Girls edu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iculum develo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IC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ES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ave the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78B-334F-43B4-9519-14E5EFAD16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1. Background and contex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tuation to date in the North and 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is common and what 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ffe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chang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needs to be chang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eed to base deci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king on sound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ny pl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fferent systems of training (confus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0CB-46E2-4B67-8AFB-58F4008CA3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ssu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nks between North and Sou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nguage poli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riculum: values and princi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placed people: setting equivalences (common outcomes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titutional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llenges (financial; capacities; experti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E9D-81DF-4586-A797-6CB39B65D3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2. JAM &amp; UN Work Pl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WAP (e.g. resource allocation for teacher salaries &amp; teacher train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rategic planning led by the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stainable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ystem monitoring (e.g. UNICEF/UNESCO: gender issues in the curriculu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3A7-9EA2-424D-A02F-D5D8664384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3. Partners and stakehold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CEF: pre-school and prima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(Teacher training; curriculum; back to school; non-formal literacy; fast-track learning; child-friendly school model; HIV/AIDS; Peace education; Life skills; Policy dialogue; Standards &amp; competencies;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SAI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Teacher education; non-formal ed.; curriculum; Distance education/Radio; System building/EMIS; Institutional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22E-3734-4100-A890-1593EBA680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3. Partners and stakehold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Mother tongue education in primary sch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ave the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ny other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F3D-747C-42F7-8B2E-1C4FA29F87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4. UNESCO: expertise and areas of compet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fill/bridge the gap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CE; primary (with UNICEF); secondary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ESCO Cairo: Teacher training (training of train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vision of labour (Go to the South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vergence and coord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neral curriculum frame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895-0631-4987-AE88-A89A6D57EB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UNESC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ild on strengths (planning; curriculum development; teacher training; HRE; technical assistance; secondary edu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Georgescu, Kharto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26B-99CE-451C-89E7-67911D8FFD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3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03:47:55Z</dcterms:created>
  <dc:creator> </dc:creator>
  <dc:description/>
  <dc:language>en-US</dc:language>
  <cp:lastModifiedBy>i_byron</cp:lastModifiedBy>
  <dcterms:modified xsi:type="dcterms:W3CDTF">2006-04-13T14:06:16Z</dcterms:modified>
  <cp:revision>5</cp:revision>
  <dc:subject/>
  <dc:title>REPORT</dc:title>
</cp:coreProperties>
</file>