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87F-1A21-47AE-8A50-9A0BD94B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EEC-CDE3-4D52-87FA-66333CB2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1E9-3724-4F4F-9CC2-6D2602CD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CD3-3AC0-4E12-9A9E-B965675C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D2F-EB55-460F-9B6E-1FA264FA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4C26-C825-413E-A5D3-53C8CB5B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5B01-15C2-4D34-A9C3-7E47B3E3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91E5-74BF-4A97-8A85-2F2B7F41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A767-DF55-414B-B31F-530337A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7B1-FA91-4A66-A148-19617E8C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267D-6FFE-4397-8621-043E992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B8E-5508-4809-9ED0-EDA2D904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395A-42BB-4293-BC10-3CA16FA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BACF-240A-475D-B4C0-D6A035A1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0C4-7E50-4DCE-BFE1-F8929A9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27F-A421-4774-AE61-49851DBC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EB3C-5052-4698-ACA1-612AC9EC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E06B-B46B-4D18-AE31-EFE688E5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8428-B1AF-4070-9AB5-819EE3C8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340E-F98F-468B-9426-82EAB63B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23AD-44C5-4AB8-BF6B-4128477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FAE5-6EED-4CF2-9D50-D7AF3A5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4B9-4676-4DF4-9DC1-6CFA259C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C8AF-A375-49E5-AB0C-2FD829C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48FB-FC25-4414-B221-C1E28061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35E4-005D-43D6-9969-246826B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7741-B358-44E1-839C-A7D561B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AB0A-A950-49C4-BDD2-4CDE674B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58B4-1085-462B-B494-E1516807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010A-819C-4744-A44E-F6C7C18C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0879-1F75-4CC0-8886-7FDAC272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3D3F-650A-42D1-83E7-A36902FB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1766-5CCE-46CE-98B8-003AEF3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2B0-342A-45A4-B450-DFC6F818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FBE3-C353-4858-8A5D-774AAC6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443E3-8168-4E0C-AEDC-72FFF7B0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A19C-BDC2-487E-8B5C-2510B87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3FAE-DD9D-4A61-9615-0ACF704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5DDA-6939-4D41-A646-F817FE75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7F5C-9529-4F6C-B738-A6BC857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7334-9887-4883-A929-0780C86C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6832-3BAC-4896-B5AB-912A9E99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C204-B909-4073-B0CD-36492418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393AD-6F4D-45FD-9A9D-C61DFBFD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4EB-C60E-499C-B5AB-E1B99051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FC26-04E9-4D2D-81BB-EB49631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F161-3ED6-4477-A5A5-6AE6F312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2371-F002-4019-971D-F8595DF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81DC-0956-45B8-85A5-E7C54F06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9EA3-54C6-460D-B223-DAEB7BF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81FE-3622-460D-BE27-37A1B70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6EB3-B044-472E-AD03-085E3EF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965E2-AA5A-408A-9AC8-2F67EB2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16AF7-DAB0-4AC4-B13E-9852BAF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2F69-711C-41E7-B73A-7C0D9B69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4B7-A92B-4CA7-A2BA-89A14B88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F9E6-39B9-46A2-959F-7D2A74FD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EC62-0C86-4085-9E28-531B12FE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227B-CEB3-4ECD-83D0-5BC5CF1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DB7B-97F8-4D0B-B705-7E5839E8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243C-D8A2-4638-AE6A-0AFA85C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450C8-3EEC-4D2E-892A-2396E32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E2008-D3DD-4A3F-A5D9-1D3B581E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6659E-12D3-400D-9CEF-94F3D9F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750C-868C-4BEB-8567-983B0F1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ED24-F88B-45D1-BBD2-03A0602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687-2EE9-435D-989D-4079C11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FFF8-57FD-462A-9D60-E4B50FB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CEF10-7BC3-49E2-8ADC-18E836AC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9620D-3258-46F4-A541-CCA35403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BAC83-479C-402D-AC3D-18D8439D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E68A-3919-41DA-A568-41CBBA83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1EE66-CCC1-4BAA-A07B-0A80AA4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8DBE9-E6C7-47F5-8B38-9AFA746A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9045-426B-4F9A-9C40-C735F3C1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A35AC-AF6B-40EA-95A0-ECB3A5D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E332-61DC-43E1-BA5D-26A741F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65D-3013-4A4B-B65B-C86612F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8420-BBFD-4F35-9DAD-1FCBC361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EB6B-DB1A-4B7D-8963-5279ABD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9EC1-0588-4F39-B4DD-FA75AEB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DA5A3-3848-4653-B2A6-6D579284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0316B-7815-41B0-82D0-D631C195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1EB-E367-4983-BC43-7442935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2E4-3F77-49E6-83A0-8ACA454C13E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9023-4E32-467C-8972-28B2E6202F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2BDB-B2CD-4BE0-B3F0-7A66FF2B659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03B6-003F-4AD4-9E7A-7F46C08E7F3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721-4561-4C7C-824D-C7A579460D8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D90-85EE-455D-AE3D-F8F9A22109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EC86-0D42-434A-8F12-014E8F3B958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9E4-FB07-4173-A3EA-4CB914D2516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A678-3D23-4062-9060-550565EECAF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1770-8D2C-4D96-832C-DF5D0719DEF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3535-52D7-4FF2-8BA1-CFE0A2CA44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7E5-26DD-47A3-9178-CF4E7F1C395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820F-C3E3-452C-8835-D074B6EADEE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D437-4E30-49E8-99E2-4FE3C90DDD7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635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«Competencies for living and working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in the 21st century: </a:t>
            </a:r>
            <a:br>
              <a:rPr sz="2800"/>
            </a:br>
            <a:r>
              <a:rPr b="1" i="1" lang="en-GB" sz="2800" spc="-1" strike="noStrike">
                <a:solidFill>
                  <a:srgbClr val="572314"/>
                </a:solidFill>
                <a:latin typeface="Gill Sans MT"/>
              </a:rPr>
              <a:t> A capacity development toolkit for curriculum innovations in African Countries»</a:t>
            </a:r>
            <a:br>
              <a:rPr sz="2800"/>
            </a:b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nternational Workshop – Nairobi (Kenya), 22-26 June 2009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94920" y="441972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20e04"/>
                </a:solidFill>
                <a:latin typeface="Gill Sans MT"/>
              </a:rPr>
              <a:t>Agenda Overvie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BIE-anglais"/>
          <p:cNvPicPr/>
          <p:nvPr/>
        </p:nvPicPr>
        <p:blipFill>
          <a:blip r:embed="rId2"/>
          <a:stretch/>
        </p:blipFill>
        <p:spPr>
          <a:xfrm>
            <a:off x="1295280" y="0"/>
            <a:ext cx="190656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bmz-en-rgb"/>
          <p:cNvPicPr/>
          <p:nvPr/>
        </p:nvPicPr>
        <p:blipFill>
          <a:blip r:embed="rId3"/>
          <a:stretch/>
        </p:blipFill>
        <p:spPr>
          <a:xfrm>
            <a:off x="3733920" y="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tzlogo-sv-primar-en-rgb"/>
          <p:cNvPicPr/>
          <p:nvPr/>
        </p:nvPicPr>
        <p:blipFill>
          <a:blip r:embed="rId4"/>
          <a:stretch/>
        </p:blipFill>
        <p:spPr>
          <a:xfrm>
            <a:off x="5486400" y="0"/>
            <a:ext cx="194148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untitled23"/>
          <p:cNvPicPr/>
          <p:nvPr/>
        </p:nvPicPr>
        <p:blipFill>
          <a:blip r:embed="rId5"/>
          <a:stretch/>
        </p:blipFill>
        <p:spPr>
          <a:xfrm>
            <a:off x="7477200" y="0"/>
            <a:ext cx="12286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F5E5-C298-4630-BEA7-15333AFA33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72314"/>
                </a:solidFill>
                <a:latin typeface="Gill Sans MT"/>
              </a:rPr>
              <a:t>Organizers and Contributor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inistry of Education, Ken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UNESCO IB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panish Government: Ministry of Education and Spo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TZ/BM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DC (Switzerlan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UNESCO HQ/ED/BAS, Bamako and Windhoe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Other UNESCO field off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614-9BD5-4C25-A05B-8630FF167B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Resource pers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ountry representa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lmehdi Ag Muphta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Jean Bern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hilippe de Castr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Lynn van der El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armel Gallag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Dakmara Georgesc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Klaus Jah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Florence Mige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2F4-1268-45C6-8E7C-8E5B50E44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72314"/>
                </a:solidFill>
                <a:latin typeface="Gill Sans MT"/>
              </a:rPr>
              <a:t>Seminar objectiv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18960" y="990360"/>
            <a:ext cx="7715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ine and finalize the new version of the Toolki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e to the detailed outlining of different sections of the Toolki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re and select good practices for integration into the Toolki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ft preliminary guidelines for field testing, review and integration of the feedback collec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the concept of field-testing the Toolkit in a number of selected count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pilot count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5A1-6C47-4692-AA8A-08A8B0008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Expected outco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8960" y="1904760"/>
            <a:ext cx="7715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n agreed finalized version of the Toolkit structure and out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ore advanced versions of different parts/sections of the Toolkit developed based on the active contribution of all participa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ollow up processes prepar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011-63CF-410F-A82C-7772C5F97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4480" y="-305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Working method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837720"/>
            <a:ext cx="7499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teractive plenary presentation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Hands-on group work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source materi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gular summaries and feedb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imultaneous trans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ccess to working stations and 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chool vis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isure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ity tou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ock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428-B2D6-41C8-9B55-C9E407662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Agenda overview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ill Sans MT"/>
              </a:rPr>
              <a:t>Day 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Intrduction of toolkit structure and an example of one more elaborated chapt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Group work to finalize the toolkit structure and out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ill Sans MT"/>
              </a:rPr>
              <a:t>Day 2 and 3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cus on Toolkit – Part A: «Content and methodology» – Section 1: “Fostering Learning to Live Together - basic principles, concepts and approaches” and Section 2: “Developing thematic approaches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0FC-F7A2-42BE-AC87-F2581D2166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Agenda overview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Day 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ill Sans MT"/>
              </a:rPr>
              <a:t>School visit (afternoo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Focus on Toolkit – Part A, Sections 3 and 4 (Group wor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Focus on Toolkit  – Part B: “Curriculum processes”, Sections 5, 6 and 7 (Plenary discussio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F2E-8F4A-44D7-8C3E-0F05FEE80F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Agenda overview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Day 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etailed revised outline of the Toolkit: summary and conclu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lanning the pilot testing of the Toolkit; identification/selection of the pilot count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Follow-up:  July – December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Workshop eval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0C6-9E48-4B60-9E92-D026A5476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3:43:03Z</dcterms:created>
  <dc:creator>Klaus Jens Jahn</dc:creator>
  <dc:description/>
  <dc:language>en-US</dc:language>
  <cp:lastModifiedBy>Dakmara Georgescu</cp:lastModifiedBy>
  <dcterms:modified xsi:type="dcterms:W3CDTF">2009-06-21T13:07:30Z</dcterms:modified>
  <cp:revision>15</cp:revision>
  <dc:subject/>
  <dc:title>«Competencies for living and working  in the 21st century:   A capacity development toolkit for curriculum innovations in African Countries» International Workshop – Nairobi (Kenya), 22-26 June 2009</dc:title>
</cp:coreProperties>
</file>