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23B-06B5-4567-9EEE-9E241D20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C91-2283-4922-9A2D-C6E0CF1B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78D-40ED-4ABB-99BA-28A93369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CC5-C3B8-43B3-8C98-3C09E26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1BB0-C351-4D6D-9504-C5BCD1D1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CFA6-D32D-440C-B5C1-224B6B94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41FF-8E04-4644-8989-FF73C748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D32-E2EA-4BD7-8411-77A07D4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E224-39F2-427C-A610-E1874DF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59D-6526-4DB2-8F2F-9AADB19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2608-69A2-47EB-97ED-81E619B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439-2CC1-41C5-A257-7CBB6FF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659B-4AB3-4B83-9452-9D3117B4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558-7E83-4D13-A61F-DCC605EA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50C-F6DE-4B6C-B8C5-98BD377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0F5B-F276-49E9-A00F-FF066436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5DC1-7C5F-4B31-AD29-05B55560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4F6D-6154-4196-B9F0-8633F415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AD80-5899-4F9E-9330-B7638D44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A21B-61F9-4003-81F9-DEEAEE0A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E9DC-CB78-4156-8210-75B762DF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01EC-BA02-407E-91EA-3E1CB94A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469-1336-4FD3-BD71-9F7CE5BC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8CD8-4CA6-4B6C-B0B4-CA7145A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175A-CA82-467F-90AE-B60A311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BB26-808D-4F49-BFF8-ADA61B7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3301-5668-4612-B987-14121C6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684B-4077-4CF4-BA7D-8F9321F2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4CB4-730F-40F0-BCA1-39ED3FB7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99FF-A3A3-4F6B-BC14-A8E22958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8CBF-9046-486C-9E96-A834D307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5E5C-DA92-4AEF-8309-75D62F9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08B0-F382-49D0-9860-B6331BE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78A-48C7-4CE0-A310-56574664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CBB6-40C1-46CB-97A5-C385D38A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813B-180C-4630-9AED-0AE4216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B012-C770-4563-A6B1-CCB24F2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C11F-0419-4CA9-9CFF-7F7E44A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A6A2-11B6-4534-A98A-969EB2B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1B8F-0282-454A-BF8C-87475DD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78BA-D912-4A9B-B6BD-D086AC1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9CB4-F826-4759-B741-D69EF448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865A-A402-4B20-B536-4099DCA9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D7AC-85D0-4BEB-ADE3-9CF30730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43E-DE39-48CC-99E7-6E969DA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7754-8C61-479E-AC5C-8CA41C2E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D33C-6002-490A-A7A3-0ED4E64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F82B-9CD6-41CE-96C7-E1D5B2D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E2A3-B9FF-417B-9603-90D868F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15CA-74C0-44D3-829B-3DF7F083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D383-06C0-4DAB-8E2B-8AB306D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17D2-F3A7-4C57-AB2E-B0B2A79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F601-E013-47CE-B7AD-C5BE21A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7DDBF-E2FA-4E24-8614-DA5EF623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5E12-456F-4E1E-9F92-7EE7F484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0E8-1BAE-464D-8C82-00F6883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F4B1-BB85-4E41-9054-418EE37E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0638-C0D1-4516-9162-AB8B1480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47BC-877F-4196-B196-49422B6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C11A-603D-4F48-A5CD-277B2D1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7321C-FB36-4A56-AD9C-C5279CF8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3438C-FDA6-421F-A998-ABD62B49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200C-8B31-4A90-8FDF-09DC36F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D5FE-F268-496E-8FFB-331915B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EB23-0A93-40CF-9700-370FEE4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ABFD-2271-4A78-8261-62EA0C0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64A-0DC1-4A49-AECD-2696D22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9645-1CE3-4E96-AE64-BA160E0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D9E3-93F2-4547-B7FF-96FE28F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6987-6ED2-4AA0-B7F8-EB85BD61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10CF-6D8A-4FAF-A7BE-80F5141F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CB54-72BC-4F18-9540-EA6C73D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B816-B25B-47E3-BF9C-6DCBE0A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D3F6-AB18-4AD2-B21D-FAA88FD0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EEFB-D6FC-49E8-ACA6-BB18DAE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D867-23E7-42AE-A7D4-28CC174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B164-51BE-4F2C-9399-CD125EA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638-38F2-4895-820F-CE497BC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FB860-3357-4B6C-802B-45CFC3A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1036-3A6E-476D-8584-7CF424E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5BAA-1F16-40EA-BA89-BB9EA9E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C499-E385-4E32-BF34-2684AE2D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923E-A07F-4EEB-A623-F90E4AA2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AB4-61BC-498D-A72F-293DAD0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B12-50BE-463E-AC0C-62E4D8515B0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6D03-C5C8-47D6-BE72-CB6AB13EAE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30C-4B20-43B4-A57A-DC1D32824AB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F1A-8554-4A74-AD76-67C6E56E49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0A2-C237-4C4A-AE19-07C12238551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DCD7-1A54-4A87-8DD5-61D0D63FF0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7423-BA49-4E78-8C89-B216DDA0515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B4E-E366-4050-A1EA-7EC68C06BD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E76B-5FF3-4C65-9E58-DB80C0D02BB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C263-1C7B-49EA-B8EB-6440E46245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CB8B-1FFC-4707-83A7-7C4BBBB1C86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78E-1D86-48FD-B605-E67A645354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F24C-AC79-4F7A-9545-B004DD6CFA7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2A28-E7CE-4EAE-9D78-63F045512F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60020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étences pour la vie et le travail : une bo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 pour les innovations curriculaires en Afrique”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Atelier international - Nairobi (Kenya), 22-26 Juin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Aperçu de l‘Agen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2E4-44F7-4B7D-A643-D0E4742F43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Organisateurs et contributeur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inistère de l’Education, Ken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UNESCO BI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ouvernement du Royaume d’Espagne : Ministère de l’Education et des Spo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TZ/BM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opération Suisse au Développement  (DDC- Suiss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UNESCO Siège/ED/BAS, Bamako et Windhoe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utres bureaux hors-siège de l’UNES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2E2-7C99-48C7-90F7-DFF6D0599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Personnes ressour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présentants des p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lmehdi Ag Muphta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Jean Bern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hilippe de Castr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Lynn van der El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armel Gallag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akmara Georgesc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Klaus Jah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Florence Mige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B80-C23A-407C-8F11-334979728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Objectifs de l’atelier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18960" y="990360"/>
            <a:ext cx="7715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éliorer et finaliser la nouvelle version de la B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 à outi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er aux différentes sections de la B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 à outi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ager et sélectionner les bonnes pratiques à intégrer dans la B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 à outi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fter les indications pour le pilotage, révision et intégration des commentaires reç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le pilotage de la B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te à outils dans un nombre de pays sélectionné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pays pilo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C9B-619C-40AD-BE6F-EFC33AB9A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Résultats attend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8960" y="1904760"/>
            <a:ext cx="7715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Une version partagée de la structure et du contenu de la B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Versions avancées de différentes parties/ sections de la B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préparées sur la base des contributions actives de tous les particip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rocessus de suivi mis en pl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FE8-3308-4F78-A49C-3CCE3C6F8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4480" y="-305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Méthodologie de travai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résentations en sessions plénières interacti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ravaux de group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ssources matéri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ésumés réguli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raduction simultané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ccès aux postes de travail et à l’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site d’éc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oisi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ur guidé de la vi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ock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E03-8B86-416A-8CAB-0E6BBDB15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perçu de l’Agend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ill Sans MT"/>
              </a:rPr>
              <a:t>Jour 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Introduction de la structure de la Bo</a:t>
            </a:r>
            <a:r>
              <a:rPr b="0" lang="de-DE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et exemple d‘un chapitre élabor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Travaux de groupe pour finaliser la structure et le contenu de la Bo</a:t>
            </a:r>
            <a:r>
              <a:rPr b="0" lang="de-DE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ill Sans MT"/>
              </a:rPr>
              <a:t>Jours 2 et 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cus sur la Bo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– Partie A: «Contenu et méthodologie» – Section 1: “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nforcement de l’« Apprendre à vivre ensemble »– principes de base, concepts et approche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” et Section 2: “Developper des approches thématiques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07E-E55A-4C2B-9F7C-41E8524BC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perçu de l’agend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Jour 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Visite d‘école (après-midi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Jour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ocus sur la Bo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– Partie A, Sections 3 et 4 (Travaux de grou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ocus sur la Bo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 – Partie B: “Processus du curriculum”, Sections 5, 6 et 7 (discussions en session plénièr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E3E-E3C1-45AF-B5E4-9A59FD9D47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perçu de l’Agend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Jour 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ontenu et structure détaillés de la Bo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: résumés et conclu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lanification de la phase de pilotage de la Bo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; identification et sélection des pays pil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uivi : Juillet - Décembre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emarques de 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Evaluation de l’ateli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589-3AC8-4D99-9271-4144ACF7E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BiePublic</cp:lastModifiedBy>
  <dcterms:modified xsi:type="dcterms:W3CDTF">2009-06-22T06:08:56Z</dcterms:modified>
  <cp:revision>19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