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4A0-33CE-4B9F-9244-5F8BEB0C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B25-F69E-4C0D-9C95-C9563722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1E5-8657-4B67-B638-270D2E56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5AE-CCEC-4CE6-90F0-277A1546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17A-A94E-42F8-9951-33BA1E32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6D50-1802-466A-B3DF-5D4907C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552E-7B08-4F64-AF07-63356F94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D7E-BBB7-484C-95BB-C8CEDE7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14AB-6665-4BCA-B80A-4B79DD65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4A8E-7A83-40D2-953A-CB61146E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5CD2-450E-466D-B5CD-DAB44F3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42F-9B5D-4FA1-957C-4A182823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495-45AB-4E71-8CAB-FE4FA64B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1244-D854-4570-9DE3-CBDEAE2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741-C73A-47E6-9B40-11B86B63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A21F-B2BF-4997-BA9B-27085707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80BF-1474-4070-9AE8-B583C8ED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9AD-E603-4C8A-86EA-B31200A6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644-D165-41D4-BFDF-33493B4D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752-3DD0-4016-9D1A-01F3EF69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57C-DE23-4485-B2D8-642BED84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A84-8EE3-460F-BE0A-B57FF54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A84-77AE-4420-B945-B2E5BA9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E1C-4547-454E-A3BB-C5BD59F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F82-5F12-4DC2-9EDA-86E7241C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D299-FB33-4DD4-90ED-BC066224C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ICULU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219320" cy="1182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41148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BASED AND COMPETENCY BASED MODULAR CURRICULA (The TVET Approac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6019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 by: Yvonne Lo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stry of Education - Bel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arning Activity Packages (LA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rogram Module (or, in some cases, Module Units) is further organized into a Learning Activity Package (LAP) that consists of five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hee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b/task and check list sheet (for each skill listed in the task listing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list sheet (based on performance criteria defined for the Modul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/study material list (for the Modul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1143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formation Shee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LAP Information Sheet provides the trainee with the specific knowledg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rms and definition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nd care of equipmen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ps and precaution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ciples and guideline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y links to text, manufacturer’s manuals, other reading references; 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y links to media resourc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2189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Job/Task Shee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list of equipment, tools and materials needed to perform the task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erformance requirements, which represent the minimum acceptable level and quality of performance outcome associated with the task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itude requirem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2189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Job/Task Shee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“step-by-step” Procedure which outlines how the trainee must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trainee self-administered Practice Exercise performance checklist (see example checklist layout below); 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instructor Procedure task-driven trainee Performance Test check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erformance Checklist/Evaluation For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ncept of evaluation in a competency-based instructional delivery structure is formativ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hecklist/Evaluation Form is developed from the performance requirements for the LAP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urpose of the Performance Checklist/Evaluation Form is to ascertain trainee competency for the various tasks within a LAP that the trainee/student has just comple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19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mmar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lize National Council for TVET (NCTVET) through the Ministry of Education (MOE) have adopted, as a policy, the concept of a Modular Format for the development and presentation of curriculum materials. The Modular Format forms the foundation of Belize’s future thrust in delivering technical vocational education and training (TVET) through a Competency-Based Education and Training (CBET) system and performance-based assessment mechanis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ion of an individual’s competency will be done through the Belize National Vocational Qualification system ( BzNV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2189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n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52680" y="4876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219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54328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219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gram Develop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 Bod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dular approa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219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s Assessment is undertaken to guide the development of progra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veals knowledge, skills and attitudes required by employ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uided by Government polic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Needs Assessment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219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ead Bodi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ises of Industry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main roles and responsibilities in the particular work 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knowledge, skills and understanding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ttitudes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level of performance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219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ndard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precise description of what an employee is expected to be able to do in his/her job ro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lect criteria to which tasks should be perform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etency Standards are used in the development of curricu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2189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odular Approac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es cover major areas of competencies and are an organized group of “learning experiences assembled to achieve a specific group of related objectives.” (CATVET/ILO, 1991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module or set of modules is assessed and participants are required to be competent in each modu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rners are required to master each module before moving on to more advanced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2189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210960"/>
            <a:ext cx="1143000" cy="31140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825480"/>
            <a:ext cx="83844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446120"/>
            <a:ext cx="1143000" cy="41436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273400"/>
            <a:ext cx="83844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998800"/>
            <a:ext cx="167652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825720"/>
            <a:ext cx="1523880" cy="31140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nge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1314360"/>
            <a:ext cx="1371600" cy="58896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141640"/>
            <a:ext cx="1218960" cy="51732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867040"/>
            <a:ext cx="1523880" cy="51768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591000"/>
            <a:ext cx="167652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ttitude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2867040"/>
            <a:ext cx="121932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3384720"/>
            <a:ext cx="60948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02040"/>
            <a:ext cx="1371600" cy="51768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4648320"/>
            <a:ext cx="106668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ob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5181480"/>
            <a:ext cx="1066680" cy="31140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715000"/>
            <a:ext cx="1371600" cy="31104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ting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310440"/>
            <a:ext cx="1218960" cy="272880"/>
          </a:xfrm>
          <a:prstGeom prst="flowChartAlternateProcess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1444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13508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18604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590920"/>
            <a:ext cx="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308400"/>
            <a:ext cx="0" cy="51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193500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3176280"/>
            <a:ext cx="45720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6589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131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36939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31766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449568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87692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4547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60199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2452680"/>
            <a:ext cx="228600" cy="134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5120 h 1346040"/>
              <a:gd name="textAreaBottom" fmla="*/ 1240920 h 134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895480"/>
            <a:ext cx="914400" cy="311400"/>
          </a:xfrm>
          <a:prstGeom prst="roundRect">
            <a:avLst>
              <a:gd name="adj" fmla="val 16667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k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429000" y="1623960"/>
            <a:ext cx="1828800" cy="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1219320"/>
            <a:ext cx="106668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-3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0" y="-352800"/>
            <a:ext cx="180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0" y="15814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5960" y="45396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ODULAR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438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4382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inkage of Standard t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Overview of Module Structu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ule Obj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ask Lis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ssessment Requir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requisi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ule Tim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neral Workplace Health and Safety Requir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neral Attitude Requirements to be Emphasized During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pport Course Outl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1430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32:27Z</dcterms:created>
  <dc:creator>ylopez</dc:creator>
  <dc:description/>
  <dc:language>en-US</dc:language>
  <cp:lastModifiedBy>BIE</cp:lastModifiedBy>
  <dcterms:modified xsi:type="dcterms:W3CDTF">2006-05-19T12:43:17Z</dcterms:modified>
  <cp:revision>4</cp:revision>
  <dc:subject/>
  <dc:title>Slide 1</dc:title>
</cp:coreProperties>
</file>