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488F-291F-4DE3-968A-AF3342A7A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D40B-E7DC-4F74-9787-C7AE82321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8ADA-E533-4D28-BBED-45EAA3068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6E6C-6E94-4242-BE5A-140F56B3F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C2EF4-89D3-49D1-91D9-3847B1DC1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4200D-AF18-4120-B438-8EE2CC4E8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308FD-BEAF-4468-B750-B1D9D2C08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C3B26-8953-4268-A736-197EF4AC6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A0986-C4AC-45A4-9FF9-D36B162F8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22633-896A-47BF-BD96-96B7EB9FD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AA58B-898C-4A6F-AFDD-62CAB2B93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71F0-F5A7-4FFB-87DC-333088E40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C149C-21CD-4DBF-B8D0-CBF7600FB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30777-9603-463D-ADAA-8453C7024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B2DDE-2FD8-4C81-A847-FC2A1036E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2401E-CF8C-4891-9055-A0C9FBD13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31337-D950-485A-854D-3A630CD6F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BCAE7D-794C-4ECA-91E8-BFA07E468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5486A2-7302-4AD6-B48E-E2EDB83CF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56BF2E-6D89-4F46-B5A2-D6817CAE7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E6D227-D202-410F-B0D2-384D5B64B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6A9E8A-47E6-49AB-816A-6A59CDF1E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819C-D5C3-4F28-A9A9-373CE89C1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34C9E0-2526-4C4A-A08F-43E56E272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62095A-3B9B-4D12-92FA-54023874F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B596CD-0A16-4448-80DA-7864DA414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003E13-2D33-42EC-8EEB-65F8476B2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C2D95F-C00B-438F-AE5E-C06F28FDA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E31891-DCC6-41C3-B87C-9455927C9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6CB2BD-1D38-4FCD-ACE4-FBA45170E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BA2F89-1CC4-4FD4-99BD-0CBB0D83F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092C98-3056-456A-8CE3-771BB3FCA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AEA667-CC2E-4A95-A9BA-1C4C52FCA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88CF-E865-4023-97D8-3B9201162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225729-1E11-4052-9735-891FD7B38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D44B50-E1C6-485A-8BDE-AE046DD06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2A8D7D-8B86-4B0B-9E99-B1B90DA5D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DE1D2F-D46B-4A8A-AA03-9032ADB3B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482D04-C64A-4A71-95BF-C493A3D1F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612831-6F99-41A3-A21A-CA6DAE30B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286136-CBF3-4B0A-B273-4E4C44C1F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239BBF-E7FA-4E7D-8003-FEDB91AE2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639278-0C3A-47B5-A196-4AC06C893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6D4FEC-3FD3-48E4-8484-C5539949E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7A23-4517-4AF9-B0FE-0C264A36B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3D41AE-7250-4EF9-A5F4-488E80E17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DC182B-D3CB-4E70-8349-477FB9370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7FF4BF-7B6B-46B7-B164-1C263C116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C00D36-D075-4539-A74D-1D8807EE2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2653C6-DCEE-446F-8E41-A6B08CD64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F00E00-0C6A-4021-9F62-144081970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7694F0-AC23-48E3-BE2B-7B128EBCA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50B563-D691-48E6-87AC-E5E307C71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FBF75C-11F5-41B1-AE6A-FE8ECBCE0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34872B-941A-490A-AB4B-376C0081E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CDFF-A24F-408F-9751-93282B1CD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21B76B-2B01-4A7D-BEA7-0A5847618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D66929-0211-4043-84B6-E1F7192CB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4BA658-AFB2-4D50-9FE4-C8A840050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11AEE4-DA6D-4323-B489-D1C15B900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0D8E59-2F67-4410-A38E-20EEC3D5D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B98503-144A-4E64-816D-B77DEAE4B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25CB61-774D-4897-8B14-9080EACC1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303C1E-02D5-4949-A80B-6BFFB9F86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BBE9DF-4E3C-4973-8AEF-FB70E0072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780335-905E-447E-A6FA-59932BB93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0D19-6BA4-455A-B265-3B96A897F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BF74E9-D66C-4256-A94A-715349A1B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FF241F-7208-46B9-9D27-CD46C204F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F4A4F0-FDA7-4462-9FA8-19A1293C0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C40A45-BFAE-4634-B12D-8DFA77164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00A55E-C30C-4C0E-87A4-3965B1B96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2BF982-F86F-45A4-A4FE-3D611DD35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0088D5-46E4-4ABE-B270-3897D4538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093620-72BE-4ED6-BC3F-9F2FFC87F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29345C-4E71-41E3-B448-0BA691115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C28DD6-897B-443D-9C1F-3A7F6520B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4D51-9E6C-4504-817B-F26EAA215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EEE7B2-9CF5-4E40-BFCD-C668B45AB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47F820-4301-4333-BF49-E913085C6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E31B2C-5692-4D96-9019-BA7E56FEA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190F8E-E084-4BC8-84F4-5D7613A7D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4B2A9D-1ECD-429D-81C9-641AACCA1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31F6-3EE1-43DC-98F0-0EA648EE3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0D69D-A869-4CE0-88A8-A018F01E24D6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84EBB-3702-4011-9E78-802E6924AF5B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D2544-AA85-406F-9CF1-E94342A3941A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5B530-BAE1-45D2-9647-3692C05B4958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C4244-CB40-4465-93D0-B0B94E8EFF6A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077DD-4548-484C-A2D9-A4ABAE0F76C6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FF8D5-278A-400A-AF2A-0E394E05D6A4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88626-BEC6-468D-A16D-421B7021FCA0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FE58A-A3E9-4DA6-9D7D-B159C4887E62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5DE0F-C449-4556-82F5-900CFF02479B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C6F93-29AD-49D3-8DCF-8A7151EB09EA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1AD2B-60BC-4C11-BE4C-75156A9A77E5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FB740-AF87-4702-ADAC-3A2234592DF1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47A24-166F-4557-BCC6-78A37AB7F47A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19320" y="1447920"/>
            <a:ext cx="76356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572314"/>
                </a:solidFill>
                <a:latin typeface="Gill Sans MT"/>
              </a:rPr>
              <a:t>«Competencies for living and working </a:t>
            </a:r>
            <a:br>
              <a:rPr sz="2800"/>
            </a:br>
            <a:r>
              <a:rPr b="1" i="1" lang="en-GB" sz="2800" spc="-1" strike="noStrike">
                <a:solidFill>
                  <a:srgbClr val="572314"/>
                </a:solidFill>
                <a:latin typeface="Gill Sans MT"/>
              </a:rPr>
              <a:t>in the 21st century: </a:t>
            </a:r>
            <a:br>
              <a:rPr sz="2800"/>
            </a:br>
            <a:r>
              <a:rPr b="1" i="1" lang="en-GB" sz="2800" spc="-1" strike="noStrike">
                <a:solidFill>
                  <a:srgbClr val="572314"/>
                </a:solidFill>
                <a:latin typeface="Gill Sans MT"/>
              </a:rPr>
              <a:t> A capacity development toolkit for curriculum innovations in African Countries»</a:t>
            </a:r>
            <a:br>
              <a:rPr sz="2800"/>
            </a:br>
            <a:r>
              <a:rPr b="0" lang="en-GB" sz="2000" spc="-1" strike="noStrike">
                <a:solidFill>
                  <a:srgbClr val="572314"/>
                </a:solidFill>
                <a:latin typeface="Gill Sans MT"/>
              </a:rPr>
              <a:t>International Workshop – Nairobi (Kenya), 22-26 June 2009</a:t>
            </a:r>
            <a:endParaRPr b="0" lang="en-US" sz="2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294920" y="4419720"/>
            <a:ext cx="7559640" cy="17524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320e04"/>
                </a:solidFill>
                <a:latin typeface="Gill Sans MT"/>
              </a:rPr>
              <a:t>Follow-up of the Geneva seminar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20" name="Picture 2" descr="BIE-anglais"/>
          <p:cNvPicPr/>
          <p:nvPr/>
        </p:nvPicPr>
        <p:blipFill>
          <a:blip r:embed="rId2"/>
          <a:stretch/>
        </p:blipFill>
        <p:spPr>
          <a:xfrm>
            <a:off x="1295280" y="0"/>
            <a:ext cx="1906560" cy="99072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3" descr="bmz-en-rgb"/>
          <p:cNvPicPr/>
          <p:nvPr/>
        </p:nvPicPr>
        <p:blipFill>
          <a:blip r:embed="rId3"/>
          <a:stretch/>
        </p:blipFill>
        <p:spPr>
          <a:xfrm>
            <a:off x="3733920" y="0"/>
            <a:ext cx="1828800" cy="96840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4" descr="gtzlogo-sv-primar-en-rgb"/>
          <p:cNvPicPr/>
          <p:nvPr/>
        </p:nvPicPr>
        <p:blipFill>
          <a:blip r:embed="rId4"/>
          <a:stretch/>
        </p:blipFill>
        <p:spPr>
          <a:xfrm>
            <a:off x="5486400" y="0"/>
            <a:ext cx="1941480" cy="106668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5" descr="untitled23"/>
          <p:cNvPicPr/>
          <p:nvPr/>
        </p:nvPicPr>
        <p:blipFill>
          <a:blip r:embed="rId5"/>
          <a:stretch/>
        </p:blipFill>
        <p:spPr>
          <a:xfrm>
            <a:off x="7477200" y="0"/>
            <a:ext cx="1228680" cy="1066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CF736-144B-48AA-AB3D-268B290B43E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4" name=""/>
          <p:cNvGraphicFramePr/>
          <p:nvPr/>
        </p:nvGraphicFramePr>
        <p:xfrm>
          <a:off x="1219320" y="304920"/>
          <a:ext cx="7619760" cy="6448320"/>
        </p:xfrm>
        <a:graphic>
          <a:graphicData uri="http://schemas.openxmlformats.org/drawingml/2006/table">
            <a:tbl>
              <a:tblPr/>
              <a:tblGrid>
                <a:gridCol w="4724280"/>
                <a:gridCol w="28954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Gill Sans MT"/>
                          <a:ea typeface="Arial"/>
                        </a:rPr>
                        <a:t>Activi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Gill Sans MT"/>
                          <a:ea typeface="Arial"/>
                        </a:rPr>
                        <a:t>Stat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Gill Sans MT"/>
                          <a:ea typeface="Arial"/>
                        </a:rPr>
                        <a:t>- Workshop Repo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Gill Sans MT"/>
                          <a:ea typeface="Arial"/>
                        </a:rPr>
                        <a:t>Report delayed – will be sent out as a package, including Kigali, Grenva and Nairob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Gill Sans MT"/>
                          <a:ea typeface="Arial"/>
                        </a:rPr>
                        <a:t>-Conclusions of the Geneva seminar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600" spc="-1" strike="noStrike">
                          <a:solidFill>
                            <a:srgbClr val="000000"/>
                          </a:solidFill>
                          <a:latin typeface="Gill Sans MT"/>
                          <a:ea typeface="Arial"/>
                        </a:rPr>
                        <a:t>Prepar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179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Gill Sans MT"/>
                          <a:ea typeface="Arial"/>
                        </a:rPr>
                        <a:t>- Refining the Toolkit structure and content outli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600" spc="-1" strike="noStrike">
                          <a:solidFill>
                            <a:srgbClr val="000000"/>
                          </a:solidFill>
                          <a:latin typeface="Gill Sans MT"/>
                          <a:ea typeface="Arial"/>
                        </a:rPr>
                        <a:t>Feedback from country tea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600" spc="-1" strike="noStrike">
                          <a:solidFill>
                            <a:srgbClr val="000000"/>
                          </a:solidFill>
                          <a:latin typeface="Gill Sans MT"/>
                          <a:ea typeface="Arial"/>
                        </a:rPr>
                        <a:t>First comprensive draf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600" spc="-1" strike="noStrike">
                          <a:solidFill>
                            <a:srgbClr val="000000"/>
                          </a:solidFill>
                          <a:latin typeface="Gill Sans MT"/>
                          <a:ea typeface="Arial"/>
                        </a:rPr>
                        <a:t>Review meeting in Geneva (June 0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600" spc="-1" strike="noStrike">
                          <a:solidFill>
                            <a:srgbClr val="000000"/>
                          </a:solidFill>
                          <a:latin typeface="Gill Sans MT"/>
                          <a:ea typeface="Arial"/>
                        </a:rPr>
                        <a:t>Secod revised comprehensive draf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600" spc="-1" strike="noStrike">
                          <a:solidFill>
                            <a:srgbClr val="000000"/>
                          </a:solidFill>
                          <a:latin typeface="Gill Sans MT"/>
                          <a:ea typeface="Arial"/>
                        </a:rPr>
                        <a:t>Planned national worksho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600" spc="-1" strike="noStrike">
                          <a:solidFill>
                            <a:srgbClr val="000000"/>
                          </a:solidFill>
                          <a:latin typeface="Gill Sans MT"/>
                          <a:ea typeface="Arial"/>
                        </a:rPr>
                        <a:t>Postponed for after Nairob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179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80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600" spc="-1" strike="noStrike">
                          <a:solidFill>
                            <a:srgbClr val="000000"/>
                          </a:solidFill>
                          <a:latin typeface="Gill Sans MT"/>
                          <a:ea typeface="Arial"/>
                        </a:rPr>
                        <a:t>Organization of Kenya worksho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600" spc="-1" strike="noStrike">
                          <a:solidFill>
                            <a:srgbClr val="000000"/>
                          </a:solidFill>
                          <a:latin typeface="Gill Sans MT"/>
                          <a:ea typeface="Arial"/>
                        </a:rPr>
                        <a:t>Agreement with, and support of MOE, Kenya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600" spc="-1" strike="noStrike">
                          <a:solidFill>
                            <a:srgbClr val="000000"/>
                          </a:solidFill>
                          <a:latin typeface="Gill Sans MT"/>
                          <a:ea typeface="Arial"/>
                        </a:rPr>
                        <a:t>Agen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600" spc="-1" strike="noStrike">
                          <a:solidFill>
                            <a:srgbClr val="000000"/>
                          </a:solidFill>
                          <a:latin typeface="Gill Sans MT"/>
                          <a:ea typeface="Arial"/>
                        </a:rPr>
                        <a:t>Conceptual no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600" spc="-1" strike="noStrike">
                          <a:solidFill>
                            <a:srgbClr val="000000"/>
                          </a:solidFill>
                          <a:latin typeface="Gill Sans MT"/>
                          <a:ea typeface="Arial"/>
                        </a:rPr>
                        <a:t>Instructions to country tea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600" spc="-1" strike="noStrike">
                          <a:solidFill>
                            <a:srgbClr val="000000"/>
                          </a:solidFill>
                          <a:latin typeface="Gill Sans MT"/>
                          <a:ea typeface="Arial"/>
                        </a:rPr>
                        <a:t>Logistic prepar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3121-ABD9-4172-96F0-99E493AEC15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5" name=""/>
          <p:cNvGraphicFramePr/>
          <p:nvPr/>
        </p:nvGraphicFramePr>
        <p:xfrm>
          <a:off x="1219320" y="304920"/>
          <a:ext cx="7619760" cy="6429240"/>
        </p:xfrm>
        <a:graphic>
          <a:graphicData uri="http://schemas.openxmlformats.org/drawingml/2006/table">
            <a:tbl>
              <a:tblPr/>
              <a:tblGrid>
                <a:gridCol w="4724280"/>
                <a:gridCol w="28954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Gill Sans MT"/>
                          <a:ea typeface="Arial"/>
                        </a:rPr>
                        <a:t>Next ste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Gill Sans MT"/>
                          <a:ea typeface="Arial"/>
                        </a:rPr>
                        <a:t>Stat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Gill Sans MT"/>
                          <a:ea typeface="Arial"/>
                        </a:rPr>
                        <a:t>-Preparing an advanced version of the Toolki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Gill Sans MT"/>
                          <a:ea typeface="Arial"/>
                        </a:rPr>
                        <a:t>- Preparing for the pilot test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800" spc="-1" strike="noStrike">
                          <a:solidFill>
                            <a:srgbClr val="000000"/>
                          </a:solidFill>
                          <a:latin typeface="Gill Sans MT"/>
                          <a:ea typeface="Arial"/>
                        </a:rPr>
                        <a:t>Comprehsnsive draft by early August 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800" spc="-1" strike="noStrike">
                          <a:solidFill>
                            <a:srgbClr val="000000"/>
                          </a:solidFill>
                          <a:latin typeface="Gill Sans MT"/>
                          <a:ea typeface="Arial"/>
                        </a:rPr>
                        <a:t>Pilot testing strategy agreed up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80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800" spc="-1" strike="noStrike">
                          <a:solidFill>
                            <a:srgbClr val="000000"/>
                          </a:solidFill>
                          <a:latin typeface="Gill Sans MT"/>
                          <a:ea typeface="Arial"/>
                        </a:rPr>
                        <a:t>- One day national workshop for dissemination and sharing of the project process and adcvanced version of the Toolk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800" spc="-1" strike="noStrike">
                          <a:solidFill>
                            <a:srgbClr val="000000"/>
                          </a:solidFill>
                          <a:latin typeface="Gill Sans MT"/>
                          <a:ea typeface="Arial"/>
                        </a:rPr>
                        <a:t>Late August/Sept. 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80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800" spc="-1" strike="noStrike">
                          <a:solidFill>
                            <a:srgbClr val="000000"/>
                          </a:solidFill>
                          <a:latin typeface="Gill Sans MT"/>
                          <a:ea typeface="Arial"/>
                        </a:rPr>
                        <a:t>Field testing of the Toolkit in selected count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800" spc="-1" strike="noStrike">
                          <a:solidFill>
                            <a:srgbClr val="000000"/>
                          </a:solidFill>
                          <a:latin typeface="Gill Sans MT"/>
                          <a:ea typeface="Arial"/>
                        </a:rPr>
                        <a:t>Feedback to be prepared by end of Sept. 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11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Gill Sans MT"/>
                          <a:ea typeface="Arial"/>
                        </a:rPr>
                        <a:t>- Final project seminar  in Frankfurt and finalisation of the Toolk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800" spc="-1" strike="noStrike">
                          <a:solidFill>
                            <a:srgbClr val="000000"/>
                          </a:solidFill>
                          <a:latin typeface="Gill Sans MT"/>
                          <a:ea typeface="Arial"/>
                        </a:rPr>
                        <a:t>12-16 Oct. 09 – Frankfurt semin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800" spc="-1" strike="noStrike">
                          <a:solidFill>
                            <a:srgbClr val="000000"/>
                          </a:solidFill>
                          <a:latin typeface="Gill Sans MT"/>
                          <a:ea typeface="Arial"/>
                        </a:rPr>
                        <a:t>Finalised Toolkit integrating the feedback from countri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800" spc="-1" strike="noStrike">
                          <a:solidFill>
                            <a:srgbClr val="000000"/>
                          </a:solidFill>
                          <a:latin typeface="Gill Sans MT"/>
                          <a:ea typeface="Arial"/>
                        </a:rPr>
                        <a:t>Discussing the usage of the Toolkit and other resour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800" spc="-1" strike="noStrike">
                          <a:solidFill>
                            <a:srgbClr val="000000"/>
                          </a:solidFill>
                          <a:latin typeface="Gill Sans MT"/>
                          <a:ea typeface="Arial"/>
                        </a:rPr>
                        <a:t>Suggestions for follow-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800" spc="-1" strike="noStrike">
                          <a:solidFill>
                            <a:srgbClr val="000000"/>
                          </a:solidFill>
                          <a:latin typeface="Gill Sans MT"/>
                          <a:ea typeface="Arial"/>
                        </a:rPr>
                        <a:t>Publication of the Toolk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Gill Sans MT"/>
                          <a:ea typeface="Arial"/>
                        </a:rPr>
                        <a:t>November, IBE / GTZ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7B00-184A-4941-8C72-B1FE44D9C21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300" spc="-1" strike="noStrike">
                <a:solidFill>
                  <a:srgbClr val="572314"/>
                </a:solidFill>
                <a:latin typeface="Gill Sans MT"/>
              </a:rPr>
              <a:t>Other issu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Gill Sans MT"/>
              </a:rPr>
              <a:t>Completion and publication of the new version of the Study on preparation for life and work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Gill Sans MT"/>
              </a:rPr>
              <a:t>Preparing a new project proposal for 2010-2013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000000"/>
                </a:solidFill>
                <a:latin typeface="Gill Sans MT"/>
              </a:rPr>
              <a:t>Fund raising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6884-E76C-4888-B595-23AB5B759E6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0T13:43:03Z</dcterms:created>
  <dc:creator>Klaus Jens Jahn</dc:creator>
  <dc:description/>
  <dc:language>en-US</dc:language>
  <cp:lastModifiedBy>Dakmara Georgescu</cp:lastModifiedBy>
  <dcterms:modified xsi:type="dcterms:W3CDTF">2009-06-21T14:16:00Z</dcterms:modified>
  <cp:revision>10</cp:revision>
  <dc:subject/>
  <dc:title>«Competencies for living and working  in the 21st century:   A capacity development toolkit for curriculum innovations in African Countries» International Workshop – Nairobi (Kenya), 22-26 June 2009</dc:title>
</cp:coreProperties>
</file>