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83C-9F5F-4C53-BF04-1374E693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338-B4B8-4762-B9D3-8B74C0C3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299-3265-473C-9EE1-33CE8ECC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6AC-17AE-48A3-9912-05221341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19FD-42F8-4939-9087-03A384DE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7E2C-AC38-4B7E-887C-82093641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30D9-93FD-4F01-8D60-8F602A9A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D7A5-974C-4567-BA46-C0A841D2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1154-54E3-4713-8F30-23377FBD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3BAB-7E13-41BE-BDB7-933D3DD6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8FB5-2FAD-4D1A-BCDE-2B7A4F76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E24-6D45-4DBE-9328-15E5A458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8A2E-EF1A-4D46-9A9D-0C028CC9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4EE2-224E-4CA2-8EE8-BEF12243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483C-4F0E-41A8-99E4-4F11B20E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4B2E-4796-4989-A836-ED32B267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1E71-C7E3-4DA5-8CAA-E24041AF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A5E8-13E3-4DAB-8D9A-B36E149D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C1D94-ED74-410E-BA05-5884E371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FE23-3D97-422E-99A7-1C42C796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0341-D9F9-46F5-BBC6-8E7B4036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D6F0A-C126-4840-9AAC-655EA69E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298-1B12-488E-A1BB-6A78CE12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AFF37-28FB-4B54-BFAC-92470E62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171BD-8B3B-4677-884B-012F0424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0C95-714E-415F-97B7-D38EDCE3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825E-0E7B-4780-915F-B5CA833A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DD23-1719-4BA3-897E-369981EE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066CE-149F-48F4-B997-F8F3B9E4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D822E-611A-4857-99C7-C3C521FA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7107-3D7B-40D3-9EC8-14F2D4EC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2E1B2-2805-42C7-8BC9-8A10251B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257B4-FC8E-4905-922E-08C81EAD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01E-6383-4CDB-B81F-E8357481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CCD6-59B8-479F-862E-1F362711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A549-AC26-4ADD-BCAF-7D64C219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99317-FEF0-4E6B-9CF2-8C405C94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41786-40CA-42CE-9EEE-09228F5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42070-3DE0-459C-BF29-500FDC53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C58A5-54EB-4AA6-B01D-CD14A44E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E7234-6400-4C15-98CD-98E31DB7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66E93-2409-4CBC-A82A-200E63D9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8C6C6-6C0B-43E0-95B5-0A2E0740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4FF2-2D9B-4A1E-B1DB-9A06A0F9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B88-C445-4E34-9BE6-93B699DC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FB7C8-2997-45B5-9E89-6FE3AB75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F62F0-C3AD-4BFC-A7E0-221400F6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04467-DF13-4E1C-9796-2AD0FE60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B3050-7899-460F-8396-A655E616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D26FF-4FED-44BA-BE6B-472E8F8C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1B8B8-E63F-4AA2-98CE-565379C4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AEBA5-DA5D-438F-8063-7A339D8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1E7B0-6B2E-483A-BCA3-7E8D29F2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23A5A-15A7-4F03-82F6-07F324A4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318B1-F853-48EA-961C-D609BAF1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223-2579-4A68-B943-3A237719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FDFE3-1453-48C5-86D0-693CCD4C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A55AE-F1C2-4779-88A0-338FE3DA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FAEA8-E52F-4874-A167-E3CF7D4A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71A1A-28F4-4AB9-A6A9-E2A2705E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1E83C-19A8-4B09-A75C-29306304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7B764-8652-4CBB-AC9D-E1233DFA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973CC-164A-4CAE-956D-F8D7CDDF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4C6C6-A29C-4642-89B3-128ECE1A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A29AB-23F7-4341-8986-3CFA0094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01993-0C76-427F-AB89-2F9FD8F0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671-C5FF-4757-AF9E-30900893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0386A-8D1D-4B14-80F5-E057076C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537AC-80D2-4FA1-BB2A-9C8D4394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B2301-C861-498D-ABB7-30358D84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2DFEA-5DA7-44A1-B477-BC121C1D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251D9-19E4-4BBC-ACE3-E07CAC23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3C776-53FE-45BA-A644-0E96CB62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BF017-60C7-4DFD-92AC-7618BC06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D39B8-AEB2-4E93-AFD7-2568D735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BF397-952C-41CE-839E-9A1D218B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957BA-7761-47F9-9462-619162E1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655-0B41-4457-A0E2-72EA0A7B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90DB6-9BF6-43CB-A462-326F95A8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11128-901C-48E6-AA15-18F01C66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CD342-B472-4F34-9DDC-35B18C96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E640-7E0B-4E0F-A0D8-9492ADDA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5856E-DC3F-4EBD-A42D-8113B945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889-A858-4976-A92B-8868140E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6D09-B230-447F-8864-FFF2E540513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41C7-7A8A-4CDA-85A8-0CBCCBF33B0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CD53-BDD0-40DA-9FC9-532A7ECFBA2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9961-C27C-401E-96AC-FEB20E5A762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5FF6-F6BA-4CE0-87A9-E0A1C8705FE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964C-B769-4DC7-85EC-2EC65FB67F8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5F30-C4B8-48D7-AA3C-9FB88618184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F625-1128-40F7-9F46-097DBC05FB9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5549-E773-4298-A9E9-708448F8EDB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DC56-5681-467F-9C37-C57AE2C9583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BF2E-A830-4DA9-AFB4-D7A373F1894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33C8-C106-4ED8-A543-F4D4E2795E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395D-EBAE-4F7A-9A22-30270F95ABD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5E2F-7002-4BFE-9962-70253787FD6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1447920"/>
            <a:ext cx="7635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«Compétences pour vivre et travailler au 21ème siècle : une bo</a:t>
            </a:r>
            <a:r>
              <a:rPr b="1" i="1" lang="en-GB" sz="28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îte à outils pour les innovations curriculaires en Afrique” </a:t>
            </a:r>
            <a:br>
              <a:rPr sz="2000"/>
            </a:b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Atelier international – Nairobi (Kenya), 22-26 Juin 2009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94920" y="441972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20e04"/>
                </a:solidFill>
                <a:latin typeface="Gill Sans MT"/>
              </a:rPr>
              <a:t>Suivi du séminaire de Genèv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BIE-anglais"/>
          <p:cNvPicPr/>
          <p:nvPr/>
        </p:nvPicPr>
        <p:blipFill>
          <a:blip r:embed="rId2"/>
          <a:stretch/>
        </p:blipFill>
        <p:spPr>
          <a:xfrm>
            <a:off x="1295280" y="0"/>
            <a:ext cx="190656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bmz-en-rgb"/>
          <p:cNvPicPr/>
          <p:nvPr/>
        </p:nvPicPr>
        <p:blipFill>
          <a:blip r:embed="rId3"/>
          <a:stretch/>
        </p:blipFill>
        <p:spPr>
          <a:xfrm>
            <a:off x="3733920" y="0"/>
            <a:ext cx="1828800" cy="968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gtzlogo-sv-primar-en-rgb"/>
          <p:cNvPicPr/>
          <p:nvPr/>
        </p:nvPicPr>
        <p:blipFill>
          <a:blip r:embed="rId4"/>
          <a:stretch/>
        </p:blipFill>
        <p:spPr>
          <a:xfrm>
            <a:off x="5486400" y="0"/>
            <a:ext cx="194148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untitled23"/>
          <p:cNvPicPr/>
          <p:nvPr/>
        </p:nvPicPr>
        <p:blipFill>
          <a:blip r:embed="rId5"/>
          <a:stretch/>
        </p:blipFill>
        <p:spPr>
          <a:xfrm>
            <a:off x="7477200" y="0"/>
            <a:ext cx="12286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0010-D9B2-4778-AEB3-3F00905177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219320" y="304920"/>
          <a:ext cx="7619760" cy="6889680"/>
        </p:xfrm>
        <a:graphic>
          <a:graphicData uri="http://schemas.openxmlformats.org/drawingml/2006/table">
            <a:tbl>
              <a:tblPr/>
              <a:tblGrid>
                <a:gridCol w="4724280"/>
                <a:gridCol w="2895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  <a:ea typeface="Arial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  <a:ea typeface="Arial"/>
                        </a:rPr>
                        <a:t>Stat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 Rapport du séminai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sera envoyé comme package, incluant également Kigali, Genève et Nairo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 Conclusions du séminaire de Genèv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Prepar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 Amélioration du contenu et de la structure de la Boîte à out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Commentaires des équipes pay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Première révision du draft de la Boîte à outils durant la réunion de Genève (Juin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Deuxième révision du draft de la Boîte à out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 Ateliers nation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Reportés après Nairo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Organisation de l’atelier international de Nairo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Accord et support u Ministère de l’Education du Kenya, Agenda, Note conceptuelle, Instructions pour la préparation des équipes pays, préparations logist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2310-6E76-4371-8C3A-E4C52E6831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19320" y="304920"/>
          <a:ext cx="7619760" cy="7527960"/>
        </p:xfrm>
        <a:graphic>
          <a:graphicData uri="http://schemas.openxmlformats.org/drawingml/2006/table">
            <a:tbl>
              <a:tblPr/>
              <a:tblGrid>
                <a:gridCol w="4724280"/>
                <a:gridCol w="2895480"/>
              </a:tblGrid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  <a:ea typeface="Arial"/>
                        </a:rPr>
                        <a:t>Etapes suiv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  <a:ea typeface="Arial"/>
                        </a:rPr>
                        <a:t>Stat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Preparation d’une version avancée de la Boîte à out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 Preparation de la phase de pilotage de la Boîte à out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Draft de la Boîte à outils pour début aoû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Stratégie du pilotage de la Boîte à out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Ateliers nationaux pour la dissémination et le partage du processus du projet et de la version avancée de la Boîte à out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Fin Août/ Septembre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Pilotage de la Boîte à outils dans les pays selectionn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Commentaires à préparer pour fin Septembre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 Séminaire final de la seconde phase du projet à Frankfort et finalisation de la Boîte à out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12-16 Octobre 2009 - Séminaire de Frankf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Finalisation de la Boîte à outils en intégrant les commentaires des p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Discussions sur l’utilisation de la Boîte à outils et d’autres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Suggestions pour le sui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Publication de la Boîte à out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Novembre, BIE / GT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A5B-3D2E-4C0C-B90F-76BB3633CF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300" spc="-1" strike="noStrike">
                <a:solidFill>
                  <a:srgbClr val="572314"/>
                </a:solidFill>
                <a:latin typeface="Gill Sans MT"/>
              </a:rPr>
              <a:t>Autres activité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Finalisation et publication de la nouvelle version de l’Etude sur la préparation à la vie et au trav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Préparation d’une proposition de nouveau projet pour 2010-101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Gill Sans MT"/>
              </a:rPr>
              <a:t>Mobilisation de fon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591-C5E0-45EB-A1D6-5CA23502C0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13:43:03Z</dcterms:created>
  <dc:creator>Klaus Jens Jahn</dc:creator>
  <dc:description/>
  <dc:language>en-US</dc:language>
  <cp:lastModifiedBy>Bonnie Han</cp:lastModifiedBy>
  <dcterms:modified xsi:type="dcterms:W3CDTF">2009-06-21T16:44:07Z</dcterms:modified>
  <cp:revision>15</cp:revision>
  <dc:subject/>
  <dc:title>«Competencies for living and working  in the 21st century:   A capacity development toolkit for curriculum innovations in African Countries» International Workshop – Nairobi (Kenya), 22-26 June 2009</dc:title>
</cp:coreProperties>
</file>