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61F-83B2-4D32-AB0F-3892E626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C49-525F-443A-B1AB-A76DA3D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244-12C0-416B-951B-2C5D2A39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010-A2B1-4E3D-AAA0-DB162238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8568-586A-4BB9-8E03-32BEB9F0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E962-AA0E-46C4-A30B-A7580D77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7A5D-D683-4817-868E-F9EB169C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AD9B-FD1B-4A87-9785-FEE19896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E981-C847-4EA2-9017-9178C558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6D68-BE6D-4306-93F1-4C793FAB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46B2-D5ED-49D8-974A-E638D2C9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BBE-9C23-4CD4-9CEA-A4CD4BEA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43DB-1D3D-4D32-9ED6-6BA60729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C783-EE98-4507-A9B7-9BAFCD45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24F9-5092-4245-AE32-C6DFD7E1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C968-5814-4964-9090-865B9916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25E8-EF3B-46C3-93F7-165A9EA6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93C-4AB6-4715-8C1F-D0CAB79C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01F-12CE-4809-953B-E4F6A064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EBB-EF46-49FB-B20A-92CBC21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4BD-9110-4B7D-B913-B744A318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09F-B647-418A-B43A-C6A479BB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736-BF08-4A36-9045-F7BFB5F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7F8-F732-41A6-95BA-329E012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F5FC-01E2-4E6E-9C71-5B62C8050E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6691-A240-49D0-B221-7272A89144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Arial"/>
              </a:rPr>
              <a:t>SECRETARIA DE EDUCACION SUBSECRETARIA TECNICO PEDAGOGICA </a:t>
            </a:r>
            <a:br>
              <a:rPr sz="2800"/>
            </a:br>
            <a:r>
              <a:rPr b="0" lang="es-ES_tradnl" sz="2800" spc="-1" strike="noStrike">
                <a:solidFill>
                  <a:srgbClr val="ccecff"/>
                </a:solidFill>
                <a:latin typeface="Arial"/>
              </a:rPr>
              <a:t>DIRECCION GENERAL DE CURRICULUM</a:t>
            </a:r>
            <a:br>
              <a:rPr sz="2800"/>
            </a:br>
            <a:r>
              <a:rPr b="0" lang="es-ES_tradnl" sz="2800" spc="-1" strike="noStrike">
                <a:solidFill>
                  <a:srgbClr val="ccecff"/>
                </a:solidFill>
                <a:latin typeface="Arial"/>
              </a:rPr>
              <a:t>DEPARTAMENTO DE EVALUAC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200" spc="-1" strike="noStrike">
                <a:solidFill>
                  <a:srgbClr val="99ff99"/>
                </a:solidFill>
                <a:latin typeface="Arial"/>
              </a:rPr>
              <a:t>CONSTRUIMOS UNA NUEVA CULTURA DE EVALUACION</a:t>
            </a:r>
            <a:br>
              <a:rPr sz="2800"/>
            </a:br>
            <a:br>
              <a:rPr sz="2800"/>
            </a:br>
            <a:r>
              <a:rPr b="1" lang="es-ES_tradnl" sz="3200" spc="-1" strike="noStrike">
                <a:solidFill>
                  <a:srgbClr val="ccecff"/>
                </a:solidFill>
                <a:latin typeface="Arial"/>
              </a:rPr>
              <a:t>SINECE</a:t>
            </a:r>
            <a:br>
              <a:rPr sz="4000"/>
            </a:br>
            <a:br>
              <a:rPr sz="4000"/>
            </a:b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ABRIL, 2006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2997000"/>
            <a:ext cx="6656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496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l planificar y llevar a cabo una evaluación de los componentes    mencionados debemos considerar las siguientes dimension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304920"/>
            <a:ext cx="9144000" cy="5862600"/>
            <a:chOff x="0" y="304920"/>
            <a:chExt cx="9144000" cy="5862600"/>
          </a:xfrm>
        </p:grpSpPr>
        <p:sp>
          <p:nvSpPr>
            <p:cNvPr id="233" name=""/>
            <p:cNvSpPr/>
            <p:nvPr/>
          </p:nvSpPr>
          <p:spPr>
            <a:xfrm>
              <a:off x="6553080" y="2514600"/>
              <a:ext cx="2590920" cy="174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1800" y="2743200"/>
              <a:ext cx="3321000" cy="961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304920"/>
              <a:ext cx="7696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2438280"/>
              <a:ext cx="2590920" cy="174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24280" y="4419720"/>
              <a:ext cx="2590920" cy="174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8800" y="4419720"/>
              <a:ext cx="2590920" cy="174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28800" y="457200"/>
              <a:ext cx="2590920" cy="174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76720" y="289548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8ae8"/>
                  </a:solidFill>
                  <a:latin typeface="Times New Roman"/>
                </a:rPr>
                <a:t>DIMENSION DE LA EVALUAC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00600" y="533520"/>
              <a:ext cx="2590920" cy="174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762120"/>
              <a:ext cx="205740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8ae8"/>
                  </a:solidFill>
                  <a:latin typeface="Times New Roman"/>
                </a:rPr>
                <a:t>¿</a:t>
              </a:r>
              <a:r>
                <a:rPr b="1" lang="es-ES_tradnl" sz="1400" spc="-1" strike="noStrike">
                  <a:solidFill>
                    <a:srgbClr val="008ae8"/>
                  </a:solidFill>
                  <a:latin typeface="Times New Roman"/>
                </a:rPr>
                <a:t>PARA QUE?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Función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Diagnost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Formativ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Sumativ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29200" y="4648320"/>
              <a:ext cx="205740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8ae8"/>
                  </a:solidFill>
                  <a:latin typeface="Times New Roman"/>
                </a:rPr>
                <a:t>¿</a:t>
              </a:r>
              <a:r>
                <a:rPr b="1" lang="es-ES_tradnl" sz="1400" spc="-1" strike="noStrike">
                  <a:solidFill>
                    <a:srgbClr val="008ae8"/>
                  </a:solidFill>
                  <a:latin typeface="Times New Roman"/>
                </a:rPr>
                <a:t>CON QUE?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 Referen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Normativ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Cri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Personaliz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0" y="2819520"/>
              <a:ext cx="205740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8ae8"/>
                  </a:solidFill>
                  <a:latin typeface="Times New Roman"/>
                </a:rPr>
                <a:t>¿</a:t>
              </a:r>
              <a:r>
                <a:rPr b="1" lang="es-ES_tradnl" sz="1400" spc="-1" strike="noStrike">
                  <a:solidFill>
                    <a:srgbClr val="008ae8"/>
                  </a:solidFill>
                  <a:latin typeface="Times New Roman"/>
                </a:rPr>
                <a:t>QUIEN?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 Agente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Eval. Inter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Eval. Exter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920" y="2590920"/>
              <a:ext cx="2057400" cy="16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8ae8"/>
                  </a:solidFill>
                  <a:latin typeface="Times New Roman"/>
                </a:rPr>
                <a:t>¿</a:t>
              </a:r>
              <a:r>
                <a:rPr b="1" lang="es-ES_tradnl" sz="1400" spc="-1" strike="noStrike">
                  <a:solidFill>
                    <a:srgbClr val="008ae8"/>
                  </a:solidFill>
                  <a:latin typeface="Times New Roman"/>
                </a:rPr>
                <a:t>COMO?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Instrumentos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Observ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Trabaj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Prueb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Exáme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7400" y="762120"/>
              <a:ext cx="205740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8ae8"/>
                  </a:solidFill>
                  <a:latin typeface="Times New Roman"/>
                </a:rPr>
                <a:t>¿</a:t>
              </a:r>
              <a:r>
                <a:rPr b="1" lang="es-ES_tradnl" sz="1400" spc="-1" strike="noStrike">
                  <a:solidFill>
                    <a:srgbClr val="008ae8"/>
                  </a:solidFill>
                  <a:latin typeface="Times New Roman"/>
                </a:rPr>
                <a:t>CUANDO?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Momento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Inic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Continu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Fi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4724280"/>
              <a:ext cx="205740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8ae8"/>
                  </a:solidFill>
                  <a:latin typeface="Times New Roman"/>
                </a:rPr>
                <a:t>¿</a:t>
              </a:r>
              <a:r>
                <a:rPr b="1" lang="es-ES_tradnl" sz="1400" spc="-1" strike="noStrike">
                  <a:solidFill>
                    <a:srgbClr val="008ae8"/>
                  </a:solidFill>
                  <a:latin typeface="Times New Roman"/>
                </a:rPr>
                <a:t>QUE?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 Objeto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Aprendizaj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Cent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buClr>
                  <a:srgbClr val="008ae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8ae8"/>
                  </a:solidFill>
                  <a:latin typeface="Times New Roman"/>
                </a:rPr>
                <a:t>Desempeño doc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99ff99"/>
                </a:solidFill>
                <a:latin typeface="Arial"/>
              </a:rPr>
              <a:t>DCNB         SINECE</a:t>
            </a:r>
            <a:r>
              <a:rPr b="0" lang="es-ES_tradnl" sz="6600" spc="-1" strike="noStrike">
                <a:solidFill>
                  <a:srgbClr val="ccecff"/>
                </a:solidFill>
                <a:latin typeface="Arial"/>
              </a:rPr>
              <a:t>               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Dentro del DCNB la evaluación se considera como el pilar que debe revolucionar  la práctica tradicional que se realiza en el aula,  sustentándose en el Sistema Nacional de la Evaluació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907920"/>
            <a:ext cx="1600200" cy="0"/>
          </a:xfrm>
          <a:prstGeom prst="line">
            <a:avLst/>
          </a:prstGeom>
          <a:ln w="50760">
            <a:solidFill>
              <a:srgbClr val="99ff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FUNCIONES DEL SIN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las evaluaciones en función de estándares educa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r indicadores para medición de log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er criterios para evaluar el rendimiento de los estudiantes y el sistema edu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r la calidad educativa en los distintos niveles esco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r y valorar el desempeño de los estudiantes y doc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02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FUNCIONES DEL SIN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47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r la definición de instrumentos de evaluación educ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r y aplicar estrategias de evalu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r la aplicación de pruebas conforme a estándares nacionales e intern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izar e interpretar la información obtenida en los procesos de evalu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ulgar resultados de las evaluaciones realizadas para la toma de deci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EVALUACION DE LOS APRENDIZAJ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 evaluación permi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preciar los logros de los estudiantes en el  proceso de aprendizaje, en cada grado curso o ni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rientar el proceso enseñanza aprendizaje hacia la concreción  de las expectativas de logro establecidas en el DCN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380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8380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ff99"/>
                </a:solidFill>
                <a:latin typeface="Times New Roman"/>
              </a:rPr>
              <a:t>FUNCIONES DE LA EVALUAC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2924280"/>
            <a:ext cx="7467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AGNOS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RMATIV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M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FUNCION DIAGNOSTICA DE LA EVALUACION</a:t>
            </a: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realiza durante todo el proceso enseñanza/aprendizaje mediante la aplicación de  técnicas de evalu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s resultados sirven de base para planificar, diseñar y ejecutar diferentes estrategias de trabaj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ff99"/>
                </a:solidFill>
                <a:latin typeface="Arial"/>
              </a:rPr>
              <a:t>¿CUÁNDO SE REALIZA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l inicio del año escolar: detecta conocimientos, habilidades y destrezas con que ingresan los alum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urante el proceso: investiga factores que inciden en el rendimiento académico del alum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FUNCION  FORMATIVA DE LA EVALUAC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ceso  sistemático que valora los aprendizajes alcanzados por los alumnos en distintos períodos y etap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ce énfasis en conocimientos, habilidades y destrezas, valores, hábitos y actitudes observables en los alum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98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99"/>
                </a:solidFill>
                <a:latin typeface="Arial"/>
              </a:rPr>
              <a:t>ANTECEDENT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7777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idad  de una educación de c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ción dispersa en los distintos niveles 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al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ncia actual de un enfoque sistém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idad de garantizar resultados posi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la calidad  del sistema educativo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iste una cultura de evaluación entre 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erentes actores del proceso edu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_tradnl" sz="4800" spc="-1" strike="noStrike">
                <a:solidFill>
                  <a:srgbClr val="99ff99"/>
                </a:solidFill>
                <a:latin typeface="Arial"/>
              </a:rPr>
              <a:t>FUNCION SUMATIVA DE LA EVALUACION</a:t>
            </a:r>
            <a:br>
              <a:rPr sz="4800"/>
            </a:b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siste en una valoración final del proceso de aprendizaje, con el objeto de estimar los logros adquiridas al término de un módulo, ciclo, curso o nive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ff99"/>
                </a:solidFill>
                <a:latin typeface="Arial"/>
              </a:rPr>
              <a:t>LA EVALUACION  SUMATIVA PERMITE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ar las competencias adquiridas por los alum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creditar los aprendizajes alcanzados en función de los objetivos propuesto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ertificar los estudios realiz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finir la promoción de los alumn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LA EVALUACION FLEXIB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proceso mediante el cual después de un seguimiento permanente de evaluación formativa y bajo condiciones de control, se garantiza el logro de aprendizajes relevantes y pertinentes en los estudi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Razones para impulsar  la Evaluación Flexi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tición esco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entismo esco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bación esc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rción del sistema educ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adaptaciòn por sobre 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o porcentaje de alumnos no concluyen la educación bás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La Evaluación Flexible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ere del docente, compromisos altamente éticos y profesionales durante el proceso de enseñanza – aprendiza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función del D.C.N.B., requiere promover estrategias metodológicas que ayuden a construir en el niño las competencias para desenvolverse en su entorno.( personal, social, cultural y económ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ne  una evaluación de proceso con carácter form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La Evaluación Flexible exig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362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endizajes más adaptados al alum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ción procesual y form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bilidad de adaptaciones curricul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de aprendizaj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ión a los padres de famil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TECNICAS E INSTRUMENTO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La evaluación se puede realizar mediante la aplicación de una variedad de técnicas e instrumentos que permiten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4000" y="3284640"/>
            <a:ext cx="8362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captación de ev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demostración de compe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gistro de evid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ff99"/>
                </a:solidFill>
                <a:latin typeface="Arial"/>
              </a:rPr>
              <a:t>De Captación De Evidencias De Aprendiz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Obser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trev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visión en base a criterios, de trabajos y prueb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encu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Sociomet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ff99"/>
                </a:solidFill>
                <a:latin typeface="Arial"/>
              </a:rPr>
              <a:t>Técnicas de Demostración de compete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Los trabajos del alum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s Textos Escrit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y realización de un experiment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rabajos de investig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y realización de un experimen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bras de expresión artíst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quetas o model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 teatr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ff99"/>
                </a:solidFill>
                <a:latin typeface="Arial"/>
              </a:rPr>
              <a:t>Algunas Técnicas de Regist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uaderno de notas del do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uaderno de notas del alum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Lista de cote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Registro anecdó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Portafo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uadro control de avances de los aprendizajes.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HN" sz="2800" spc="-1" strike="noStrike">
                <a:solidFill>
                  <a:srgbClr val="99ff99"/>
                </a:solidFill>
                <a:latin typeface="Arial"/>
              </a:rPr>
              <a:t>CONSTRUIMOS  UN NUEVO ENFOQUE EVALUATIVO</a:t>
            </a:r>
            <a:br>
              <a:rPr sz="2400"/>
            </a:br>
            <a:br>
              <a:rPr sz="2400"/>
            </a:br>
            <a:r>
              <a:rPr b="0" lang="es-HN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es-HN" sz="2400" spc="-1" strike="noStrike">
                <a:solidFill>
                  <a:srgbClr val="ccecff"/>
                </a:solidFill>
                <a:latin typeface="Arial"/>
              </a:rPr>
              <a:t>TRADICIONAL                    NUEVO ENFOQU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826920" y="1916280"/>
          <a:ext cx="7772400" cy="4510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omina interés por la medición y datos estadístic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és interpretativo y crítico obteniendo una visión más comprensiva y contextua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orienta más a los resultados o product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emás de los resultados tiene en cuenta el proces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entra en lo cognoscitivo y memorización de informac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 integral, además de lo cognoscitivo le da importancia al desarrollo de destrezas, habilidades, actitudes y afectiv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arácter autoritario y vertical, básicamente para sanciona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arácter democrático y participativa y formativ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da al finalizar un período determinad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 permanente y continua en todo el proces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EVALUACION DEL DESEMPEÑO DOCEN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ene como propósito determinar la eficacia y eficiencia del docente en el cumplimiento de sus funciones según el cargo que desempe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realizará de acuerdo a lo establecido en el Estatuto del Docente Hondureño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ASPECTOS A EVALUA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i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agóg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4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AUTOEVALUAC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362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o que le permite al docente  determinar y valorar   su rendimiento técnico, pedagógico, administrativo y  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EVALUACION DE PLANES Y PROGRAMAS DE ESTU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realizará con los  propósitos 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su valor como recurso normativo para la concreción del proceso enseñanza aprendiza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ar la conveniencia de conservarlos, modificarlos o sustituirlos conforme a las demandas educativas y socioeconómicas actu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0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Times New Roman"/>
              </a:rPr>
              <a:t>ASPECTOS A EVALUA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es y Programas de estudio  de todos los niveles y modalidades del sistema educativo considerando entre otr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nfoque filosófico y metod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royección so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iseño del pro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cu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Graduación y dosificación de conteni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EVALUACION DE PROGRAMAS Y PROYECTOS EDUCATIV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496000" cy="36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e componente permite emitir juicios de valor sobre insumos, procesos  y productos de un proyecto, con el fin de comparar impactos de su ejecución con los objetivos propuestos, niveles de participación y posibilidades de sosteni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EVALUACION DE INSTITUCIONES EDUCATIV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381880" cy="27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valuación permanente, sistemática y participativa de la institución, a fin de valorar las condiciones que ofrece para el logro de sus objetivo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ff99"/>
                </a:solidFill>
                <a:latin typeface="Arial"/>
              </a:rPr>
              <a:t>ASPECTOS A EVALUAR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19320" y="2204640"/>
            <a:ext cx="745632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yecto educativo de cen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mbiente esco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diciones pedagó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laciones interpers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laciones escuela - comun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guimiento a egres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5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5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VIABILIDA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dministración del SINECE se hará      a nivel central y desconcentrado con la participación activa de los diferentes actores del quehacer educ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SEGUIMIENTO Y MONITORE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rá presente en todos los componentes 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apas del SINECE, en la aplicación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eg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olog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4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9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4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9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4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4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9" dur="2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HN" sz="2800" spc="-1" strike="noStrike">
                <a:solidFill>
                  <a:srgbClr val="99ff99"/>
                </a:solidFill>
                <a:latin typeface="Arial"/>
              </a:rPr>
              <a:t>CONSTRUIMOS  UN NUEVO ENFOQUE EVALUATIVO</a:t>
            </a:r>
            <a:br>
              <a:rPr sz="2400"/>
            </a:br>
            <a:r>
              <a:rPr b="0" lang="es-HN" sz="2400" spc="-1" strike="noStrike">
                <a:solidFill>
                  <a:srgbClr val="ccecff"/>
                </a:solidFill>
                <a:latin typeface="Arial"/>
              </a:rPr>
              <a:t>    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HN" sz="24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1" lang="es-HN" sz="2400" spc="-1" strike="noStrike">
                <a:solidFill>
                  <a:srgbClr val="ccecff"/>
                </a:solidFill>
                <a:latin typeface="Arial"/>
              </a:rPr>
              <a:t>TRADICIONAL               NUEVO ENFOQU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71640" y="2997360"/>
          <a:ext cx="7489800" cy="2328480"/>
        </p:xfrm>
        <a:graphic>
          <a:graphicData uri="http://schemas.openxmlformats.org/drawingml/2006/table">
            <a:tbl>
              <a:tblPr/>
              <a:tblGrid>
                <a:gridCol w="3744720"/>
                <a:gridCol w="3745080"/>
              </a:tblGrid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omina la aplicación de pruebas objetiv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prescindir de las pruebas se recurre a múltiples procedimient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preocupa por la objetiv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realiza una acción Inter subjetiva y de comuni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 rígida, inflex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 flexible y abier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DIVULGACION DE 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2105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desarrollará un programa permanente de divulgación, en el que se brindará  información de los resultados de las evaluaciones realizadas a las diferentes instancias   del   nivel   central   y desconcentrado, para  la toma de decisi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1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¿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A QUIENES SIRVEN LOS RESULTADOS DE LAS EVALUACION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4920" y="2781360"/>
            <a:ext cx="799308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ridades educat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edad ci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res de famil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ciones Nacionales e internaci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1342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en-US" sz="7200" spc="-1" strike="noStrike">
                <a:solidFill>
                  <a:srgbClr val="99ff99"/>
                </a:solidFill>
                <a:latin typeface="Arial"/>
              </a:rPr>
              <a:t>GRACIAS POR SU ATENCION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501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289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Arial"/>
              </a:rPr>
              <a:t>SINE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sinece tiene como propósito, normar los procesos de evaluación y  generar información permanente, a efecto de fortalecer la toma de decis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_tradnl" sz="4800" spc="-1" strike="noStrike">
                <a:solidFill>
                  <a:srgbClr val="99ff99"/>
                </a:solidFill>
                <a:latin typeface="Arial"/>
              </a:rPr>
              <a:t>COMPONENTES  DEL SINECE</a:t>
            </a:r>
            <a:r>
              <a:rPr b="0" lang="es-ES_tradnl" sz="6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0" y="2276640"/>
            <a:ext cx="9144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Aprendizaj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Instituciones Educativa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Desempeño Docent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lanes y Programas de Estudi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ogramas y Proyectos Educativ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ff99"/>
                </a:solidFill>
                <a:latin typeface="Arial"/>
              </a:rPr>
              <a:t>POLITICAS DEL SIN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95280" y="1523520"/>
            <a:ext cx="8291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mericana BT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nnovar los procesos pedagógicos mediante una perspectiva sistemática sobre la evaluación formativa de los aprendizajes, desempeño docente y centros educativ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Fomentar una cultura de evaluación a nivel local, departamental, regional y nacional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Efectuar evaluaciones internas y externas a todos los componentes del sistema educativo Nacion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omover la toma de decisiones en base a resultados de evaluaciones realizadas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CARACTERISTICAS  DE LA EVALUACION EN EL SINECE</a:t>
            </a: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ajusta a los cambios que se plantean en el proceso educ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realiza en todas las etapas del proceso educ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realiza en forma metódica y responde a un plan establecid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sidera los factores internos, externos  que intervienen en el  proceso edu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sa métodos, técnicas, procedimientos e instrumentos válidos y conf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lica un enfoque integrador y participativo en la administración d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8380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3333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CARACTERISTICAS DE LA EVALUACION EN EL SINE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9:34:53Z</dcterms:created>
  <dc:creator>Proyecto1000</dc:creator>
  <dc:description/>
  <dc:language>en-US</dc:language>
  <cp:lastModifiedBy>BIE</cp:lastModifiedBy>
  <dcterms:modified xsi:type="dcterms:W3CDTF">2006-05-19T12:37:25Z</dcterms:modified>
  <cp:revision>109</cp:revision>
  <dc:subject/>
  <dc:title>SECRETARIA DE EDUCACION SUBSECRETARIA TECNICO PEDAGOGICA  DIRECCION GENERAL DE CURRICULUM</dc:title>
</cp:coreProperties>
</file>