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D1BFD-6D8F-43FD-A334-2A39593C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C67E-DA65-42AC-BD97-AEC4FBF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B9351-72F3-4790-B81B-B7F6E364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04DD4-FC7F-4E0A-AA3B-53A6DC97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3383B-8F38-4715-A38F-FD8E1BFA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9AF7E-BC6E-4A74-8FEC-779A6920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DE12A-FBD6-45F5-9EEA-91E9C80F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E8704-CDCA-471D-BFFE-42E3430A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39479-82FE-4815-8B31-299DD01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4B211-666C-4EBA-BE78-D5F1F8AD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46E62-719A-4954-87A2-887C5D87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B0657-02C6-48C5-9030-A12D2B40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8160" y="6597720"/>
            <a:ext cx="9182160" cy="260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-23760" y="0"/>
            <a:ext cx="9167760" cy="318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5638680" y="3352680"/>
            <a:ext cx="6831000" cy="179280"/>
          </a:xfrm>
          <a:custGeom>
            <a:avLst/>
            <a:gdLst>
              <a:gd name="textAreaLeft" fmla="*/ 659880 w 6831000"/>
              <a:gd name="textAreaRight" fmla="*/ 6171120 w 6831000"/>
              <a:gd name="textAreaTop" fmla="*/ 17280 h 179280"/>
              <a:gd name="textAreaBottom" fmla="*/ 1620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00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3343680" y="3307320"/>
            <a:ext cx="6831000" cy="215640"/>
          </a:xfrm>
          <a:custGeom>
            <a:avLst/>
            <a:gdLst>
              <a:gd name="textAreaLeft" fmla="*/ 659880 w 6831000"/>
              <a:gd name="textAreaRight" fmla="*/ 6171120 w 6831000"/>
              <a:gd name="textAreaTop" fmla="*/ 20520 h 215640"/>
              <a:gd name="textAreaBottom" fmla="*/ 1951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6360" y="262080"/>
            <a:ext cx="9180360" cy="86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6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9B8F-7F54-4418-9D34-4E7D259CF8F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23760" y="0"/>
            <a:ext cx="9167760" cy="318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8160" y="6597720"/>
            <a:ext cx="9182160" cy="260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3343680" y="3307320"/>
            <a:ext cx="6831000" cy="215640"/>
          </a:xfrm>
          <a:custGeom>
            <a:avLst/>
            <a:gdLst>
              <a:gd name="textAreaLeft" fmla="*/ 659880 w 6831000"/>
              <a:gd name="textAreaRight" fmla="*/ 6171120 w 6831000"/>
              <a:gd name="textAreaTop" fmla="*/ 20520 h 215640"/>
              <a:gd name="textAreaBottom" fmla="*/ 1951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638680" y="3352680"/>
            <a:ext cx="6831000" cy="179280"/>
          </a:xfrm>
          <a:custGeom>
            <a:avLst/>
            <a:gdLst>
              <a:gd name="textAreaLeft" fmla="*/ 659880 w 6831000"/>
              <a:gd name="textAreaRight" fmla="*/ 6171120 w 6831000"/>
              <a:gd name="textAreaTop" fmla="*/ 17280 h 179280"/>
              <a:gd name="textAreaBottom" fmla="*/ 1620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00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865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031840"/>
            <a:ext cx="77724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cc66"/>
                </a:solidFill>
                <a:latin typeface="Arial"/>
              </a:rPr>
              <a:t>Currículo Nacional Básico con Enfoque de  Competencias</a:t>
            </a:r>
            <a:r>
              <a:rPr b="0" lang="en-US" sz="57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00006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2158920" cy="10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465120"/>
            <a:ext cx="8642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aeaea"/>
                </a:solidFill>
                <a:latin typeface="Castellar"/>
              </a:rPr>
              <a:t>MARCO CURRICULAR NACIONAL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19640" y="4508640"/>
            <a:ext cx="2501640" cy="2039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00000" y="981000"/>
            <a:ext cx="770436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eaeaea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eaeaea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Descripción General del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arco Curricular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III.  Estructura Organizativa  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y Curricular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11280" y="47628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ropósit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268280"/>
            <a:ext cx="81723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Garantizar la Unidad Curricular Nacional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Proporcionar a los centros de estudio de todo el país un instrumento que les permita garantizar cuáles son las competencias que todos los estudiantes deben lograr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2200" y="1484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299556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16000" y="750960"/>
            <a:ext cx="6840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¿Cuál es la utilidad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 este Documento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9040" y="476280"/>
            <a:ext cx="860436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arantizar la concreción de los planteamientos curriculares plasmados en el diseño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nstituye marco de referencia para la adecuación de las modalidade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uía para la elaboración de libros de texto y guías didácticas y metodológica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600" y="69228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3600" y="28526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3600" y="494028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2200" y="33336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115920"/>
            <a:ext cx="824364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arco de referencia para la elaboración de las pruebas (concurso académico y pruebas estandarizadas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decuación curricular a nivel de centro y de aula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arco de referencia para la capacitación y profesionalización de los docente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Flexibilidad Curricula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052640"/>
            <a:ext cx="799308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Forma de organizar las Competencias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El docente asignará el tiempo de acuerdo con la importancia y características de los estudiantes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Períodos evaluativos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Los centros tendrán autonomía pedagógica. 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2832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2563920"/>
            <a:ext cx="328320" cy="3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55680" y="443700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328320" cy="360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28680" cy="36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779400"/>
            <a:ext cx="799308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Del 100% del tiempo destinado en el calendario escolar el 70% se dedicará al Currículo Nacional Básico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Un 30% para temáticas de la realidad según las características e intereses de los estudiantes y del centro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328320" cy="360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0000" y="301464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¿Qué son las Competencias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333360"/>
            <a:ext cx="8208720" cy="71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Es la combinación integrada de conocimientos, habilidades, destrezas y actitudes que se ponen en acción para un desempeño adecuado en un contexto dado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ás aún, se habla de un saber actuar movilizando todos los recurso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20718000">
            <a:off x="828360" y="764280"/>
            <a:ext cx="71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c85e"/>
                </a:solidFill>
                <a:latin typeface="Arial"/>
              </a:rPr>
              <a:t>En la actualidad, se produce conocimiento equivalente al que se produjo en los últimos 100 años</a:t>
            </a:r>
            <a:endParaRPr b="0" lang="en-US" sz="5400" spc="-1" strike="noStrike">
              <a:solidFill>
                <a:srgbClr val="00006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333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¿Qué son los indicadores de logros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413000"/>
            <a:ext cx="83534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Son los indicios o señales que nos permiten observar de manera evidente y específica los procesos y resultados del aprendizaje a través de conductas observables.  Es un indicador que tiene como función hacer evidente qué es lo que aprende el estudiante y cómo lo demuestra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¿Qué son contenidos 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765000"/>
            <a:ext cx="806436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Son los conocimientos específicos relacionados con los diferentes campos del saber, constituyen un medio para lograr las competencias.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En la organización de los contenidos se han incorporado tres tipos: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- Conceptuales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- Procedimentales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- Actitudinales.</a:t>
            </a:r>
            <a:endParaRPr b="0" lang="en-US" sz="33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015920"/>
            <a:ext cx="190440" cy="1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3247920"/>
            <a:ext cx="190440" cy="1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404640"/>
            <a:ext cx="8353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Tahoma"/>
              </a:rPr>
              <a:t>Estructura Organizativa y Curricular</a:t>
            </a: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9280" y="177336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Misión y Propósitos del Nivel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Perfil del Egresado del Nivel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Plan de estudio 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Competencias Nacionales Marco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Competencias de Nivel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10960" cy="211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2786040"/>
            <a:ext cx="210960" cy="211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3040" y="357840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436572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516240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11280" y="620640"/>
            <a:ext cx="7991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Tahoma"/>
              </a:rPr>
              <a:t>Estructura Organizativa Curricular</a:t>
            </a:r>
            <a:endParaRPr b="0" lang="en-US" sz="3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989000"/>
            <a:ext cx="77043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mpetencias de Ciclo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mpetencias de Período Escolar (Grado)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dicadores de logros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ntenido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440" y="2212920"/>
            <a:ext cx="484200" cy="27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7440" y="4662360"/>
            <a:ext cx="484200" cy="279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87440" y="3078000"/>
            <a:ext cx="484200" cy="27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8360" y="5597640"/>
            <a:ext cx="484200" cy="279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547640" y="29239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Gracias!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11280" y="1052640"/>
            <a:ext cx="8207280" cy="42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2024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c85e"/>
                </a:solidFill>
                <a:latin typeface="Arial"/>
              </a:rPr>
              <a:t>Situaciones de este tipo están provocando cambios significativos, con respecto a la sociedad en que nacimos y nos criamos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1280" y="1125360"/>
            <a:ext cx="889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52960" indent="-55296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a rapidez de los cambios provoca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541440" y="274680"/>
            <a:ext cx="10188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c"/>
                </a:solidFill>
                <a:latin typeface="Arial"/>
              </a:rPr>
              <a:t>¿Qué ocurre con los conocimientos?</a:t>
            </a:r>
            <a:endParaRPr b="0" lang="en-US" sz="4000" spc="-1" strike="noStrike">
              <a:solidFill>
                <a:srgbClr val="00006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916280"/>
            <a:ext cx="8064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Aft>
                <a:spcPts val="2251"/>
              </a:spcAft>
              <a:buClr>
                <a:srgbClr val="eec85e"/>
              </a:buClr>
              <a:buSzPct val="12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600" spc="-1" strike="noStrike">
                <a:solidFill>
                  <a:srgbClr val="eaeaea"/>
                </a:solidFill>
                <a:latin typeface="Arial"/>
              </a:rPr>
              <a:t>La creciente obsolescencia del conocimiento tradiciona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Aft>
                <a:spcPts val="2251"/>
              </a:spcAft>
              <a:buClr>
                <a:srgbClr val="eec85e"/>
              </a:buClr>
              <a:buSzPct val="12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600" spc="-1" strike="noStrike">
                <a:solidFill>
                  <a:srgbClr val="eaeaea"/>
                </a:solidFill>
                <a:latin typeface="Arial"/>
              </a:rPr>
              <a:t>El creciente analfabetismo sobre el conocimiento, especialmente el científico – tecnológic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Aft>
                <a:spcPts val="2251"/>
              </a:spcAft>
              <a:buClr>
                <a:srgbClr val="eec85e"/>
              </a:buClr>
              <a:buSzPct val="12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600" spc="-1" strike="noStrike">
                <a:solidFill>
                  <a:srgbClr val="eaeaea"/>
                </a:solidFill>
                <a:latin typeface="Arial"/>
              </a:rPr>
              <a:t>Con las TIC’s los(as) docentes ya no son los proveedores de la informació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El concepto de</a:t>
            </a:r>
            <a:r>
              <a:rPr b="1" lang="en-US" sz="4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4800" spc="-1" strike="noStrike">
                <a:solidFill>
                  <a:srgbClr val="ffcc00"/>
                </a:solidFill>
                <a:latin typeface="Verdana"/>
              </a:rPr>
              <a:t>competencia</a:t>
            </a: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en-US" sz="4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en  educación, resulta de las nuevas teorías de cognición </a:t>
            </a:r>
            <a:r>
              <a:rPr b="1" lang="en-US" sz="4800" spc="-1" strike="noStrike">
                <a:solidFill>
                  <a:srgbClr val="eec85e"/>
                </a:solidFill>
                <a:latin typeface="Verdana"/>
              </a:rPr>
              <a:t>y básicamente significa </a:t>
            </a:r>
            <a:r>
              <a:rPr b="1" i="1" lang="en-US" sz="4800" spc="-1" strike="noStrike">
                <a:solidFill>
                  <a:srgbClr val="eec85e"/>
                </a:solidFill>
                <a:latin typeface="Verdana"/>
              </a:rPr>
              <a:t>saberes de ejecución</a:t>
            </a:r>
            <a:r>
              <a:rPr b="1" lang="en-US" sz="4800" spc="-1" strike="noStrike">
                <a:solidFill>
                  <a:srgbClr val="eec85e"/>
                </a:solidFill>
                <a:latin typeface="Verdana"/>
              </a:rPr>
              <a:t>.</a:t>
            </a:r>
            <a:r>
              <a:rPr b="1" lang="en-US" sz="48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31640" y="549360"/>
            <a:ext cx="8533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Todo proceso de</a:t>
            </a:r>
            <a:r>
              <a:rPr b="1" lang="en-US" sz="4000" spc="-1" strike="noStrike">
                <a:solidFill>
                  <a:srgbClr val="00d7d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ec85e"/>
                </a:solidFill>
                <a:latin typeface="Arial"/>
              </a:rPr>
              <a:t>“conocer”</a:t>
            </a:r>
            <a:r>
              <a:rPr b="1" lang="en-US" sz="4000" spc="-1" strike="noStrike">
                <a:solidFill>
                  <a:srgbClr val="00d7d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se traduce en un</a:t>
            </a:r>
            <a:r>
              <a:rPr b="1" lang="en-US" sz="4000" spc="-1" strike="noStrike">
                <a:solidFill>
                  <a:srgbClr val="00d7d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ec85e"/>
                </a:solidFill>
                <a:latin typeface="Arial"/>
              </a:rPr>
              <a:t>“saber”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cc"/>
                </a:solidFill>
                <a:latin typeface="Arial"/>
              </a:rPr>
              <a:t>Por tanto, la educación ahora debe conducir a: 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lvl="1" marL="723960" indent="-5446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cc00"/>
                </a:solidFill>
                <a:latin typeface="Arial"/>
              </a:rPr>
              <a:t>saber pensar, 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lvl="1" marL="723960" indent="-5446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cc00"/>
                </a:solidFill>
                <a:latin typeface="Arial"/>
              </a:rPr>
              <a:t>saber desempeñarse, 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lvl="1" marL="723960" indent="-5446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cc00"/>
                </a:solidFill>
                <a:latin typeface="Arial"/>
              </a:rPr>
              <a:t>saber interpretar, 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lvl="1" marL="723960" indent="-5446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cc00"/>
                </a:solidFill>
                <a:latin typeface="Arial"/>
              </a:rPr>
              <a:t>saber actuar en diferentes escenarios, 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lvl="1" marL="723960" indent="-5446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cc00"/>
                </a:solidFill>
                <a:latin typeface="Arial"/>
              </a:rPr>
              <a:t>desde sí y para los demás</a:t>
            </a:r>
            <a:r>
              <a:rPr b="1" lang="en-US" sz="37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3700" spc="-1" strike="noStrike">
                <a:solidFill>
                  <a:srgbClr val="ffffcc"/>
                </a:solidFill>
                <a:latin typeface="Arial"/>
              </a:rPr>
              <a:t>(en un contexto determinado).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36360" y="262080"/>
            <a:ext cx="9180360" cy="86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500" spc="-1" strike="noStrike">
                <a:solidFill>
                  <a:srgbClr val="ffffcc"/>
                </a:solidFill>
                <a:latin typeface="Arial"/>
              </a:rPr>
              <a:t>El desempeño de una persona frente a una situación determinada utilizando correctamente sus  conocimientos.</a:t>
            </a:r>
            <a:endParaRPr b="0" lang="en-US" sz="4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c"/>
                </a:solidFill>
                <a:latin typeface="Arial"/>
              </a:rPr>
              <a:t>Algunas descripcion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1557360"/>
            <a:ext cx="8425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spcBef>
                <a:spcPts val="1125"/>
              </a:spcBef>
              <a:buClr>
                <a:srgbClr val="ffcc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500" spc="-1" strike="noStrike">
                <a:solidFill>
                  <a:srgbClr val="eaeaea"/>
                </a:solidFill>
                <a:latin typeface="Arial"/>
              </a:rPr>
              <a:t>Es la capacidad que posee una persona para dar   solución a problemas reales y generar nuevos   conocimientos.</a:t>
            </a:r>
            <a:endParaRPr b="0" lang="en-US" sz="4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6360" y="262080"/>
            <a:ext cx="9180360" cy="86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c"/>
                </a:solidFill>
                <a:latin typeface="Arial"/>
              </a:rPr>
              <a:t>Algunas descripcion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360" y="1527120"/>
            <a:ext cx="882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ffcc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500" spc="-1" strike="noStrike">
                <a:solidFill>
                  <a:srgbClr val="eaeaea"/>
                </a:solidFill>
                <a:latin typeface="Arial"/>
              </a:rPr>
              <a:t>Constituyen el conjunto de habilidades, conocimientos, capacidades, patrones de comportamiento y clases de actitudes que definen un desempeño superior.</a:t>
            </a:r>
            <a:endParaRPr b="0" lang="en-US" sz="4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262080"/>
            <a:ext cx="9180360" cy="86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c"/>
                </a:solidFill>
                <a:latin typeface="Arial"/>
              </a:rPr>
              <a:t>Algunas descripcion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8:18:26Z</dcterms:created>
  <dc:creator>Dr. Barry Smith</dc:creator>
  <dc:description/>
  <dc:language>en-US</dc:language>
  <cp:lastModifiedBy>BIE</cp:lastModifiedBy>
  <dcterms:modified xsi:type="dcterms:W3CDTF">2006-05-19T12:41:33Z</dcterms:modified>
  <cp:revision>100</cp:revision>
  <dc:subject/>
  <dc:title>Enfoque con base en Competencias - ¿Porqué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