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9EB-3098-40F8-BD49-25EDF878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F78-68F4-409D-AD19-26262F3F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33C7-9BCB-4C9F-A28C-A370C3D9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C020-D009-4F8D-87B0-C110C0A6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4F85-D378-47AC-8A41-8FCD1B22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3B94-CA4E-461A-903F-6EADC7C2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5BE9-43FE-488B-A826-40213159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0B60-3848-4677-A83D-121FA941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6F88-A5FC-4022-BC5E-EB27AE2A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4FDF-461F-4B1B-8ABA-2CB2C084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2B0C-3240-4609-8CA2-06C7AF20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31C-3F34-4F6D-9A4A-6A330FD8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1951-9D41-4D9E-8C37-3FAF71AF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FFA0-E65E-4CBF-8939-19F39989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A0DF-6CEF-48EA-B379-ED9C4F08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BA66-8C89-4843-AAD2-BB0B4D1B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E7EC-1B35-4706-B780-578424F3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4EC7-9574-4FFD-AA39-2820E9F4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D7CD2-F8A5-4CA9-A23D-ADE187D8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28DF0-85C1-4289-87AE-A0054D31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0CD92-77BD-42E3-89D2-0AC630B6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313D-7FB4-4893-A3EE-8BD12E03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AF4-C5A8-4F09-B681-A5872752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12F0-6066-42D5-88BA-384E4591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49D3-B435-4F90-83E6-FCCA0049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C926-C72C-4E0B-A49A-4C412DA5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55FF-AD28-407A-A266-686440A4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DED2D-6CEB-46DD-8009-4935EB7E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D80E-A49E-4E52-8F1F-0E14F4BA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F839-1D8F-4F8D-B71D-EC6C481D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01E02-16DA-4726-AAA0-B451A661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DC856-929A-4EDC-8F9E-4E213851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1F3F6-C7CE-41ED-A5F4-14883F85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736-EA8D-48A8-A2DC-46B08DBB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D2CEC-AD0B-4BE5-9FA9-402C91EE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6920D-8A77-45F5-92E4-CFBAAD9D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54C20-772D-44F2-A993-355245E0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1ED24-F359-4939-A003-409220F3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6B5DA-B73D-46B2-B79D-9B44DCA7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E3567-CEC9-44CF-BF98-F6841842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E42F5-FB44-44C3-AD47-D4C24E56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F8EE5-9500-4BA2-94D5-253B5520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23E42-9062-41A2-8848-27EB2A9B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748EE-D885-4407-98A9-ADD46C56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FE0-BEEE-4F4D-A40D-862C0033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8E112-DD8D-44E7-8783-8C07958E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7836A-1AA1-45E0-85D8-69BD7BA1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CD245-3A10-43A4-9C35-A3BE5865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EC093-C3BE-4792-8321-900A2960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B17F3-F12C-48E0-A00C-DA4F0EBB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1FABB-681C-4C3D-95AF-50B10CBF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69E51-8FA7-4DA6-B3D5-98D5EE9D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D47F5-9968-435B-939C-F8D766DE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1F014-C4EF-4605-A518-1404B1FD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0F004-287C-4906-9744-64194110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034-1A02-47D5-9D3F-EDE435CD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FF0B0-D439-4AA1-9F95-0319AAA1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4D8BC-82F6-41BE-9170-FE02DFCC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CDD91-8D10-4F28-BD4D-E23B2147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ABB0F-DEED-4B18-92EB-BCEDBC01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3CB2A-49E6-4B5D-A7E8-50B3CBFE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A5E83-DFE1-41C5-99BA-C36CA0C4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3597C-1222-4E0E-ACBA-173A7EB8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50022-DFC2-4DAF-8712-8825FEEF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212EF-4B4D-40F4-90C9-C6CE0E99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47B5D-D360-49F5-A85A-94270AE0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F14-849D-4C16-95C0-014D0E7F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B04A3-F84C-46A4-A529-F2D37535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016AB-5C92-4605-B2DD-A0C5127F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5B441-18E4-4CCA-BF79-D61DDE7B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70571-EA1F-4F40-B6B3-70075C16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D2C19-F7B0-42A9-99FD-CD804057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D6BC0-91F4-4A9B-9F56-F601B8CE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D3E18-1AF1-42EA-A8EB-514E25E9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2BE0C-A8D8-4201-BECF-BB88429E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62EFD-B63D-4D97-82AB-28CF0723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E40E6-4700-487B-BF4D-EF90C356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464-5810-43B3-B061-025B3181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E9EA9-BD7F-45E3-8F50-7125330D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BA9F1-ACA5-4D5F-A4FD-094FD043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8472F-72A2-4273-8A81-C4C89AA2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A01C5-B823-47B1-9429-9047B7E6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DCEA9-20B5-4930-BF7F-AF2F76F8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663-CBCE-4771-B4BC-D05D8AF2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49FA-FC4A-49E4-AC56-6385973A7D0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9334-94DE-4585-8559-FC34371298B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D363-1A45-438B-A558-3ACB89F570A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CA08-4678-47A8-8EB6-045C177EFB7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21B0-59F7-4960-8792-AF02E588140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DDE1-AA9C-4E3B-994A-45D794B2BBA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F741-AE40-4491-925D-F9B967F501E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1447920"/>
            <a:ext cx="7635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«Competencies for living and working </a:t>
            </a:r>
            <a:br>
              <a:rPr sz="2800"/>
            </a:b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in the 21st century: </a:t>
            </a:r>
            <a:br>
              <a:rPr sz="2800"/>
            </a:b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 A capacity development toolkit for curriculum innovations in African Countries»</a:t>
            </a:r>
            <a:br>
              <a:rPr sz="2800"/>
            </a:b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International Workshop – Nairobi (Kenya), 22-26 June 2009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94920" y="441972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20e04"/>
                </a:solidFill>
                <a:latin typeface="Gill Sans MT"/>
              </a:rPr>
              <a:t>Follow up activities Nairobi worksh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BIE-anglais"/>
          <p:cNvPicPr/>
          <p:nvPr/>
        </p:nvPicPr>
        <p:blipFill>
          <a:blip r:embed="rId1"/>
          <a:stretch/>
        </p:blipFill>
        <p:spPr>
          <a:xfrm>
            <a:off x="1295280" y="0"/>
            <a:ext cx="1906560" cy="99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bmz-en-rgb"/>
          <p:cNvPicPr/>
          <p:nvPr/>
        </p:nvPicPr>
        <p:blipFill>
          <a:blip r:embed="rId2"/>
          <a:stretch/>
        </p:blipFill>
        <p:spPr>
          <a:xfrm>
            <a:off x="3733920" y="0"/>
            <a:ext cx="1828800" cy="968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gtzlogo-sv-primar-en-rgb"/>
          <p:cNvPicPr/>
          <p:nvPr/>
        </p:nvPicPr>
        <p:blipFill>
          <a:blip r:embed="rId3"/>
          <a:stretch/>
        </p:blipFill>
        <p:spPr>
          <a:xfrm>
            <a:off x="5486400" y="0"/>
            <a:ext cx="194148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untitled23"/>
          <p:cNvPicPr/>
          <p:nvPr/>
        </p:nvPicPr>
        <p:blipFill>
          <a:blip r:embed="rId4"/>
          <a:stretch/>
        </p:blipFill>
        <p:spPr>
          <a:xfrm>
            <a:off x="7477200" y="0"/>
            <a:ext cx="1228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1066680" y="304920"/>
          <a:ext cx="8077320" cy="6324480"/>
        </p:xfrm>
        <a:graphic>
          <a:graphicData uri="http://schemas.openxmlformats.org/drawingml/2006/table">
            <a:tbl>
              <a:tblPr/>
              <a:tblGrid>
                <a:gridCol w="5867640"/>
                <a:gridCol w="220968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i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ports on workshops from Kigali, Geneva and Nairob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d-July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etter of information to the Ministers of Education on status of activi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3rd July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mpletion of toolkit for pilo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Final writing by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pert group / selected country repres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Meeting of core editorial team in Gene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uly to mid August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4th/05th August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ssemination of toolkit in all aprticipating 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Development of guidelines for pilot testing by G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ning and budgeting for workshops by country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Planning to be sent to IBE and GT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Agreement on activities with IBE and G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1 day workshop in the countr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Report on country workshops to IBE/G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d-July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uly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th July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st August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ugust/September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th September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990720" y="304920"/>
          <a:ext cx="8153280" cy="6468840"/>
        </p:xfrm>
        <a:graphic>
          <a:graphicData uri="http://schemas.openxmlformats.org/drawingml/2006/table">
            <a:tbl>
              <a:tblPr/>
              <a:tblGrid>
                <a:gridCol w="5943600"/>
                <a:gridCol w="2209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iloting in three selected countries (incl. dissemina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Development of guidelines for pilot testing by G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 Sans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ning and budgeting for possible activities country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Planning to be sent to IBE and GT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Agreement on activities with IBE and G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Country teams start preparation  of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Start of agreed piloting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Report of results pilot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d-July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uly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th July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st August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rom 1st August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ppr. mid Ausg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th September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mpletion of toolkit by editorial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Gathering feedback testing and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Preparation of final toolk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ptemb./October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nal Frankfurt works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Conceptual planning / preparation of Frankfurt works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Workshop to finalize toolkit and plan possibl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ptemb./October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signing and publication of the toolkit by IBE/G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emb./Decemb.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paration of a new project proposal and funds mobilaization by IBE, GTZ and Country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emb./Decemb.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Other measur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ompletion, designing and publication of the study on relevance of curricula for life and 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0T13:43:03Z</dcterms:created>
  <dc:creator>Klaus Jens Jahn</dc:creator>
  <dc:description/>
  <dc:language>en-US</dc:language>
  <cp:lastModifiedBy>Klaus Jens Jahn</cp:lastModifiedBy>
  <dcterms:modified xsi:type="dcterms:W3CDTF">2009-06-25T11:53:16Z</dcterms:modified>
  <cp:revision>14</cp:revision>
  <dc:subject/>
  <dc:title>«Competencies for living and working  in the 21st century:   A capacity development toolkit for curriculum innovations in African Countries» International Workshop – Nairobi (Kenya), 22-26 June 2009</dc:title>
</cp:coreProperties>
</file>