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ct" ContentType="image/x-pict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7165-535E-4332-800E-AB3FD423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9E60-CBC1-4E68-ADEC-A80A892A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A2FC-719D-4A26-A090-C3DBC141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A19E-0B14-40DD-9E50-B809B829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F3C2-028D-4DBC-B902-44D8491A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8A95-967C-4C04-947A-0107365C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27BE-E1D7-48BD-90A9-3BA6B700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ECE9-8849-47FF-B265-84144302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93A9-FEDF-4110-85C5-C294D857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1225-16CC-4C6F-9253-22B9484A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7E62-D23E-4967-BDCC-C9BC9542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B248-25F2-4442-8ACD-43CFA4DE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97E9-1340-49C7-BB63-A39AABC5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3B23-7737-4152-9713-011D8365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1306-3CAD-4294-A33A-3D0BC738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44A0-F98D-4465-85D1-0FC3142AC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45A5-D407-4276-9076-BA165FA0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91ED5-48D4-478E-B23F-39EEFA4B0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12C65-8350-4462-A123-7D5F3540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490D6-89CB-4BFA-B81B-3210849E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14543-3065-4D49-A215-1B7E30E8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A9829-2369-4AF0-A9D5-45D359DE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9B20-C83D-4B01-AB95-C6D60E34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629D0-8625-4750-8C29-77F0B742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A1D79-1A08-4D3E-9451-3488BE29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FB4B0-4AE5-4DE6-88CF-41AF4EE8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CC232-2AA9-4B8B-A082-CBD3D204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FB424-C718-4D79-90C4-52B12B3F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83331-2D3F-43CA-ACC2-672833A18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9C5ED-988F-4764-931B-E355519E8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25F06-FDCB-4B02-A323-72E5EE4C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356DB-669A-46DB-B654-2400153C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A9325-4C0A-483B-8143-A3483E0B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8F35-117F-445C-9264-DBA49532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EF8B6-67E0-4D62-96DC-576D61B0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D76AA-9515-490E-A6DE-84627ADE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A767F-2DF8-42E4-BE84-C60F2F08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C9BB7-FEF0-4B47-BEE8-703C857E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0D77D-C680-4954-946C-8CA043E6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E814A-8ABC-49A9-9A58-34424E44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44980-67B2-4365-9CCC-F3928345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0DA40-F8B5-4F4A-B58F-0364A4F8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C9AD5-AB95-40DF-8D0B-B3F1D629E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E843F-4D03-4CFF-97CF-F6E46619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026B-970F-4486-9D71-6CB0526A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57E83-6D20-462F-88FA-C26329B6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2F12A-B017-4205-B5A1-0A67AA62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6A72F-D6AF-4CC0-B64B-0907C2F1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D0DD6-750A-4F62-AEBF-D6C19C69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0F714-E4AA-4551-9577-D2492E09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6F622-CDDB-49FF-A239-F6840A6A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1B81F-4A1F-43E3-AA0C-5B45291E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F13D6-D672-4790-B598-0042BED4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03A2F-061A-409B-B1FE-305A7D17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56D2F-B1E3-4D53-99EA-E547FC14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E98D-8032-4309-AC60-341EFFBA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72FB7-593D-4558-9C00-53D40BC18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8376B-FCD7-462D-A3A0-D13B25908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C03F3-E6FF-4A02-8B36-FD604756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5BE94-EE02-4E53-9A10-2C8D1D51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06101-BF2C-43E2-AAFE-3AF82E8F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A2614-8A3B-4EDB-A8C5-9028EAA2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1DDC3-C894-4AD8-9D8F-8A3AEBA7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E7707-5EA5-4741-B171-7508A5A7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4A80F-5F71-4024-8051-EEE1DDF4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BF73F-0AAB-49B5-989D-DAF2FDB4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85FC-5B65-4F24-BA4F-1682E93F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A06B0-31F5-4867-B163-E3F1E6ED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2F32F-E133-4001-9A07-8C3A44997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4DD70-0FDB-4119-9BCE-E9B25920A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4F623-61BC-42CB-BDCA-47434EB2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EB1C2-E364-4B12-9109-DDC68F66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B9DA4-D01A-4B12-AEE9-6C8DC60D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EAE28-6AA0-4D67-95B9-471C6E72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05AD5-8731-4147-A75B-0525CCCA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8B9CC-A953-4769-BC54-BB757418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958E0-0989-4436-BD07-E707BC9F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F59E-9B1B-426D-B22A-F64E5876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8B351-CB76-4679-88E0-4E50141F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DBC42-96B5-4762-846C-B594A887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E603B-34EE-489C-BAE2-D9020B9A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1C297-5018-40E9-8FBD-B1C1D4071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66C64-EA59-41AE-BCB7-9CC835CB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FC59-050F-4963-B6E5-C00C132C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EBF7-6073-4F1F-A459-E79F1F21E72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646F-376F-486F-A65A-B2A45AA32A3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D71E-DAFA-4270-9F44-DA38BC358BE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9D9D-9E87-4D0D-B770-248A79E607E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7387-FFC5-4329-A848-2FB6C5AF91B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CB27-FAD0-4854-917A-BF1747C6C6C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2697-1273-49D0-8446-6BAD920B3FB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9320" y="1447920"/>
            <a:ext cx="7635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572314"/>
                </a:solidFill>
                <a:latin typeface="Gill Sans MT"/>
              </a:rPr>
              <a:t>«Competencies for living and working </a:t>
            </a:r>
            <a:br>
              <a:rPr sz="2800"/>
            </a:br>
            <a:r>
              <a:rPr b="1" i="1" lang="en-GB" sz="2800" spc="-1" strike="noStrike">
                <a:solidFill>
                  <a:srgbClr val="572314"/>
                </a:solidFill>
                <a:latin typeface="Gill Sans MT"/>
              </a:rPr>
              <a:t>in the 21st century: </a:t>
            </a:r>
            <a:br>
              <a:rPr sz="2800"/>
            </a:br>
            <a:r>
              <a:rPr b="1" i="1" lang="en-GB" sz="2800" spc="-1" strike="noStrike">
                <a:solidFill>
                  <a:srgbClr val="572314"/>
                </a:solidFill>
                <a:latin typeface="Gill Sans MT"/>
              </a:rPr>
              <a:t> A capacity development toolkit for curriculum innovations in African Countries»</a:t>
            </a:r>
            <a:br>
              <a:rPr sz="2800"/>
            </a:br>
            <a:r>
              <a:rPr b="0" lang="en-GB" sz="2000" spc="-1" strike="noStrike">
                <a:solidFill>
                  <a:srgbClr val="572314"/>
                </a:solidFill>
                <a:latin typeface="Gill Sans MT"/>
              </a:rPr>
              <a:t>International Workshop – Nairobi (Kenya), 22-26 June 2009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294920" y="441972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320e04"/>
                </a:solidFill>
                <a:latin typeface="Gill Sans MT"/>
              </a:rPr>
              <a:t>Pilot</a:t>
            </a:r>
            <a:r>
              <a:rPr b="0" lang="en-GB" sz="2600" spc="-1" strike="noStrike">
                <a:solidFill>
                  <a:srgbClr val="320e04"/>
                </a:solidFill>
                <a:latin typeface="Gill Sans MT"/>
              </a:rPr>
              <a:t> testing of the Toolki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20e04"/>
                </a:solidFill>
                <a:latin typeface="Gill Sans MT"/>
              </a:rPr>
              <a:t>Identification/selection of the pilot countrie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0" name="Picture 2" descr="BIE-anglais"/>
          <p:cNvPicPr/>
          <p:nvPr/>
        </p:nvPicPr>
        <p:blipFill>
          <a:blip r:embed="rId2"/>
          <a:stretch/>
        </p:blipFill>
        <p:spPr>
          <a:xfrm>
            <a:off x="1295280" y="0"/>
            <a:ext cx="1906560" cy="9907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bmz-en-rgb"/>
          <p:cNvPicPr/>
          <p:nvPr/>
        </p:nvPicPr>
        <p:blipFill>
          <a:blip r:embed="rId3"/>
          <a:stretch/>
        </p:blipFill>
        <p:spPr>
          <a:xfrm>
            <a:off x="3733920" y="0"/>
            <a:ext cx="1828800" cy="9684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gtzlogo-sv-primar-en-rgb"/>
          <p:cNvPicPr/>
          <p:nvPr/>
        </p:nvPicPr>
        <p:blipFill>
          <a:blip r:embed="rId4"/>
          <a:stretch/>
        </p:blipFill>
        <p:spPr>
          <a:xfrm>
            <a:off x="5486400" y="0"/>
            <a:ext cx="1941480" cy="10666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untitled23"/>
          <p:cNvPicPr/>
          <p:nvPr/>
        </p:nvPicPr>
        <p:blipFill>
          <a:blip r:embed="rId5"/>
          <a:stretch/>
        </p:blipFill>
        <p:spPr>
          <a:xfrm>
            <a:off x="7477200" y="0"/>
            <a:ext cx="1228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914040" y="1980720"/>
            <a:ext cx="80326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Gill Sans MT"/>
              </a:rPr>
              <a:t>National dissemination workshops to raise awareness and get feedback from stakeholders, all countr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Content Placeholder 2"/>
          <p:cNvSpPr/>
          <p:nvPr/>
        </p:nvSpPr>
        <p:spPr>
          <a:xfrm>
            <a:off x="1066680" y="4495680"/>
            <a:ext cx="70106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Gill Sans MT"/>
              </a:rPr>
              <a:t>More in depth pilot testing, three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19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300" spc="-1" strike="noStrike">
                <a:solidFill>
                  <a:srgbClr val="572314"/>
                </a:solidFill>
                <a:latin typeface="Gill Sans MT"/>
              </a:rPr>
              <a:t>Why piloting the toolkit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19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300" spc="-1" strike="noStrike">
                <a:solidFill>
                  <a:srgbClr val="572314"/>
                </a:solidFill>
                <a:latin typeface="Gill Sans MT"/>
              </a:rPr>
              <a:t>Why pilot testing the toolkit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90720" y="12949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ill Sans MT"/>
              </a:rPr>
              <a:t>To provide preliminary feedback on how the toolkit works in practi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ill Sans MT"/>
              </a:rPr>
              <a:t>How the toolkit can meets the needs for curriculum innovations at national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ill Sans MT"/>
              </a:rPr>
              <a:t>Get recommendations and suggestions for improving the toolkit in view of its finaliz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ill Sans MT"/>
              </a:rPr>
              <a:t>Focus: Content and implement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86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900" spc="-1" strike="noStrike">
                <a:solidFill>
                  <a:srgbClr val="572314"/>
                </a:solidFill>
                <a:latin typeface="Gill Sans MT"/>
              </a:rPr>
              <a:t>National dissemination workshops                         </a:t>
            </a:r>
            <a:r>
              <a:rPr b="0" lang="de-DE" sz="3600" spc="-1" strike="noStrike">
                <a:solidFill>
                  <a:srgbClr val="572314"/>
                </a:solidFill>
                <a:latin typeface="Gill Sans MT"/>
              </a:rPr>
              <a:t>(detailed guidelines will be issued by IBE and GTZ)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90720" y="18288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Gill Sans MT"/>
              </a:rPr>
              <a:t>Wh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ill Sans MT"/>
              </a:rPr>
              <a:t>All participating countr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Gill Sans MT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ill Sans MT"/>
              </a:rPr>
              <a:t>National dissemination to raise awarene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ill Sans MT"/>
              </a:rPr>
              <a:t>Get feedback from stakehold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Gill Sans MT"/>
              </a:rPr>
              <a:t>What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ill Sans MT"/>
              </a:rPr>
              <a:t>Information on toolkit to stakehold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ill Sans MT"/>
              </a:rPr>
              <a:t>Discuss vadility for national curriculum innov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ill Sans MT"/>
              </a:rPr>
              <a:t>Feedback / report to editorial tea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300" spc="-1" strike="noStrike">
                <a:solidFill>
                  <a:srgbClr val="572314"/>
                </a:solidFill>
                <a:latin typeface="Gill Sans MT"/>
              </a:rPr>
              <a:t>Calendar dissemination toolki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90720" y="14479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Gill Sans MT"/>
              </a:rPr>
              <a:t>Planning and budgeting for workshops by country teams, July 09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Gill Sans MT"/>
              </a:rPr>
              <a:t>Planning sent to IBE and GTZ, 25th July 09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Gill Sans MT"/>
              </a:rPr>
              <a:t>Agreement on activities with IBE and GTZ, 1st August 09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  <a:ea typeface="Arial"/>
              </a:rPr>
              <a:t>1 day workshop in the countries, </a:t>
            </a:r>
            <a:r>
              <a:rPr b="0" lang="de-DE" sz="3200" spc="-1" strike="noStrike">
                <a:solidFill>
                  <a:srgbClr val="000000"/>
                </a:solidFill>
                <a:latin typeface="Gill Sans MT"/>
              </a:rPr>
              <a:t>August/September 09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Gill Sans MT"/>
              </a:rPr>
              <a:t>Feedback / report on country workshops to IBE/GTZ, latest 30th September 09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72314"/>
                </a:solidFill>
                <a:latin typeface="Gill Sans MT"/>
              </a:rPr>
              <a:t>Possible activities for in depth pilot testing (detailed guideleines will be issued by IBE and GTZ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990720" y="14479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ill Sans MT"/>
              </a:rPr>
              <a:t>Expert focus groups for feed bac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ill Sans MT"/>
              </a:rPr>
              <a:t>Consultations with stakeholders (e.g.  meetings, questionnaire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ill Sans MT"/>
              </a:rPr>
              <a:t>Capacity development activities targeting decision makers, curriculum development departments and teacher training institu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ill Sans MT"/>
              </a:rPr>
              <a:t>Testing selected parts of the toolkit in real processes of curriculum development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ill Sans MT"/>
              </a:rPr>
              <a:t>Mix of different options is possible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ill Sans MT"/>
              </a:rPr>
              <a:t>also new suggestions …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ill Sans MT"/>
              </a:rPr>
              <a:t>be aware of time and budget limit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47560" y="0"/>
            <a:ext cx="7499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300" spc="-1" strike="noStrike">
                <a:solidFill>
                  <a:srgbClr val="572314"/>
                </a:solidFill>
                <a:latin typeface="Gill Sans MT"/>
              </a:rPr>
              <a:t>Calendar of pilot test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990720" y="838080"/>
            <a:ext cx="81532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ill Sans MT"/>
              </a:rPr>
              <a:t>Information letter on follow up and pilot testing by 03rd Ju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ill Sans MT"/>
              </a:rPr>
              <a:t>Development of guidelines for pilot testing, mid-Ju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ill Sans MT"/>
              </a:rPr>
              <a:t>Planning and budgeting of possible activities by country teams, July 2009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ill Sans MT"/>
              </a:rPr>
              <a:t>Planning to be sent to IBE and GTZ not later than 25th July 2009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ill Sans MT"/>
              </a:rPr>
              <a:t>Agreement on activities with IBE and GTZ by 1st August 2009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ill Sans MT"/>
              </a:rPr>
              <a:t>Country teams start preparation  of activities by 1st August 2009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ill Sans MT"/>
              </a:rPr>
              <a:t>Start of activities once the revised toolkit has been received, appr. mid Augu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ill Sans MT"/>
              </a:rPr>
              <a:t>Report of results pilot testing latest 30th September 2009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900" spc="-1" strike="noStrike">
                <a:solidFill>
                  <a:srgbClr val="572314"/>
                </a:solidFill>
                <a:latin typeface="Gill Sans MT"/>
              </a:rPr>
              <a:t>Criteria to identify and select  countries for piloting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90720" y="129528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ill Sans MT"/>
              </a:rPr>
              <a:t>Three languages should be represent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ill Sans MT"/>
              </a:rPr>
              <a:t>3 regions should be represente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ill Sans MT"/>
              </a:rPr>
              <a:t>6 weeks time for testing and report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ill Sans MT"/>
              </a:rPr>
              <a:t>Availability and committment of country teams mid August to end September 2009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ill Sans MT"/>
              </a:rPr>
              <a:t>Availability of country teams12th to 16th October 2009 (Frankfurt worksho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ill Sans MT"/>
              </a:rPr>
              <a:t>Presence, commitment and availability of UNESCO country off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ill Sans MT"/>
              </a:rPr>
              <a:t>Commitment of Minist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0T13:43:03Z</dcterms:created>
  <dc:creator>Klaus Jens Jahn</dc:creator>
  <dc:description/>
  <dc:language>en-US</dc:language>
  <cp:lastModifiedBy>Bonnie Han</cp:lastModifiedBy>
  <dcterms:modified xsi:type="dcterms:W3CDTF">2009-06-25T13:27:34Z</dcterms:modified>
  <cp:revision>37</cp:revision>
  <dc:subject/>
  <dc:title>«Competencies for living and working  in the 21st century:   A capacity development toolkit for curriculum innovations in African Countries» International Workshop – Nairobi (Kenya), 22-26 June 2009</dc:title>
</cp:coreProperties>
</file>