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94B-B092-4654-B11D-F10751CAD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97C-206A-46BD-9792-734DEE52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B0A-1957-4080-9D1A-3BA50B04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010-93DF-4D5C-B61F-E4FF7E6B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D128-3A03-49EE-8B03-DF22C48A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D3C-7593-4B86-BEC0-D6F8D462B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D977-BAB8-4E19-B50B-8F303937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062-AE18-499A-BA3A-812E8F47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833-C314-4925-A255-243C6BA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C31-C002-47F0-AC1E-AB460882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9E0-EE40-4D19-9E57-FED79C6A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295-57C0-4510-B36A-984F7544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208-ABED-403F-A17D-D4880438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8766-844B-492B-94EA-6C94BD33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624D-4040-4A25-B2C6-75839AC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BD9-471F-4723-8D4F-DA330F0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FD7-9D12-480A-801B-8207A72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7DCC-8D03-4579-A476-0468831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022-937C-48EB-B569-B48A408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1F3A-30C1-4B03-B5FA-4F53AFC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A21F-3840-4D9D-80E4-DAE09E0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A6E5-F55B-4985-B5ED-B8FEF98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6B3-0521-43A1-8DF7-7CE4C134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221-F125-43BD-88B3-AD6B4AC4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3902-E131-4F55-8753-22FB478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E434-C2E0-43AA-89E1-6476016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9E0F-28C7-4500-A4F0-B3821B5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5932-4823-41EF-93F9-BE80AC5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BA5B-10E0-4465-9458-00C330D3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F96-F47A-46C0-92B0-76CD29C6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4F57-1E7A-45E8-AD1F-82C10D24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849E-B054-4A3E-8C5F-66D18A8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3BD3-CBBA-4AAC-B49D-87384EC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03C9-C6D0-413E-9D5B-41AC6D34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F80D-7A28-4608-8F0E-988909E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DCFB-FF17-45C1-98A1-BDCEAE04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57E0-885A-43DC-9506-1F33E37D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C9B9-734B-49B4-9C4C-202CC15A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56DE-B4F6-479C-9B35-8651BAD4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B153-B484-4647-A734-859B3A1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BE1-5E46-4B2A-951C-2DFC951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41CA-412D-48DF-8911-9A662F01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7157-3FDE-42D3-995A-44E4CB1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14D6-B11E-4ED8-8C67-A4436F4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5C47-6737-45A0-B8A6-2ACCA66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3352-12BB-4138-A739-5730E5E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9EEDF-83DC-446B-B321-078DD13F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972D-18B8-4656-A801-391E2EF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5283-3604-4981-88D0-0CD611AC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CB77-7338-4514-94D2-4CFD0B9B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DC3B-E8FC-40D6-85DE-042641CD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6B4-77B0-4379-99D5-E5CD3075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D1B69-B06B-4996-B12B-57A8041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280C-11CC-448F-B165-03EDC440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AB19-8F1D-4459-AA55-89A6F519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E13E-78D7-472F-BD16-7FDC6E5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8A51-2228-4296-80A8-B3E387F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3B6D4-B5B1-424B-A7A9-F548C78A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FAAF-DD2A-4A02-A934-90D92F8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8227-6AB3-4DA3-8838-8C946C1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2137-5C8D-43F5-BF76-57094B2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092A-556D-42EC-AA75-5CF2B867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F8C-B779-4704-B27D-941E598F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6468-1095-4B90-9EB8-F45E5AA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9B38-46B9-4DE9-82E7-EBC74BA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C714-D370-4515-B162-E4985707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5DAA-AF82-4563-B709-B3F665C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2832-C548-427D-A2FF-72312B1E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A5E1-C58F-4683-9310-5E154D3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2CA8A-559E-45BE-A207-0E8ECCF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434F-A23F-4FE1-8172-643B28C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59E1-2CA5-41C0-B709-4F2A179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A22E-19AC-49D6-A0DF-5320562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573-9BA7-4FF3-8961-6D2B3A7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C416-C660-4CDC-AE1C-679678F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DD7BD-D05D-419C-8F4E-11C24977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806FC-34D0-4583-81BE-11B5A3DE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F811-24BF-4F67-8508-A068F45A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CF27-5A3C-4BBE-9129-5379E05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10C9-A0EF-42B2-8EB1-2E10194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45BB-6CDC-4FEB-8A10-E0E30C00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E359-B18B-4B3B-91F6-12898F2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D630-5E63-485E-AC18-E029F91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A817-C52A-4A93-9C96-5C505CC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CD3-68CC-4529-96F3-A6C6451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476E-3FFA-479D-B8CB-CEF4D77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7FDA-A210-4FE8-83AF-1488951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BC5A-98CF-4A26-9C7C-D5B84D3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59C8-44EB-451A-9895-3FF2A2DC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33EE-6565-4C96-B2EC-24F968D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8A5-0B7F-417C-A038-9A63A71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8E8-9069-4373-B488-F0BE02634D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3C86-5F53-47A3-932E-6F8DAD3B08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636-8CE9-4600-83AB-6BD1CB6AF9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9D2-4398-4BD1-A168-843EC8CDB3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E2F-E7B5-4266-95EF-F51DB1B701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841-8AFB-444D-A83C-0A81D238A0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D60E-0124-4DBB-8915-5C38AAFEBA2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étences pour vivre et travailler au 21ème siècle: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 Une b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ôite à outils pour les innovations curriculaires en Afrique</a:t>
            </a: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Atelier international – Nairobi (Kenya), 22-26 Juin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Phase de pilotage de la Bo</a:t>
            </a:r>
            <a:r>
              <a:rPr b="0" lang="de-DE" sz="2600" spc="-1" strike="noStrike">
                <a:solidFill>
                  <a:srgbClr val="320e04"/>
                </a:solidFill>
                <a:latin typeface="Gill Sans MT"/>
                <a:ea typeface="ＭＳ Ｐゴシック"/>
              </a:rPr>
              <a:t>îte à outils</a:t>
            </a: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Identification/sélection des pays pilot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Ateliers nationaux de dissémination pour sensibilisation et commentaires des acteurs, tous les p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Content Placeholder 2"/>
          <p:cNvSpPr/>
          <p:nvPr/>
        </p:nvSpPr>
        <p:spPr>
          <a:xfrm>
            <a:off x="1066680" y="3962520"/>
            <a:ext cx="7499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Phase de pilotage approfondi, 3 p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62360" y="765000"/>
            <a:ext cx="53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Pourquoi piloter la Bo</a:t>
            </a:r>
            <a:r>
              <a:rPr b="0" lang="de-DE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</a:t>
            </a: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Proposer des commentaires préliminaires sur la manière dont la Bo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fonctionne dans la pratiq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Comment la Bo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peut répondre aux besoins d‘innovations curriculaires au niveau nat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Recueillir les recommandations et les suggestions pour l‘amélioration de la Bo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en vue de sa finalis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ill Sans MT"/>
              </a:rPr>
              <a:t>Focus : Contenu et mise en œuv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43000" y="5508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808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72314"/>
                </a:solidFill>
                <a:latin typeface="Gill Sans MT"/>
              </a:rPr>
              <a:t>Ateliers nationaux de dissémination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72314"/>
                </a:solidFill>
                <a:latin typeface="Gill Sans MT"/>
              </a:rPr>
              <a:t>(Des instructions détaillées seront fournies par le BIE et la GT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19051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981080"/>
            <a:ext cx="55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1752480"/>
            <a:ext cx="80773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ill Sans MT"/>
              </a:rPr>
              <a:t>Qu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Tous les pay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ill Sans MT"/>
              </a:rPr>
              <a:t>Pour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Dissémination au niveau national pour sensibi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Recueillir les commentaires des a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ill Sans MT"/>
              </a:rPr>
              <a:t>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Informations sur la Bo</a:t>
            </a:r>
            <a:r>
              <a:rPr b="0" lang="de-DE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aux a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Discuter de la validité pour les innovations curric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Commentaires / Rapport pour l‘équipe éd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74080" y="228600"/>
            <a:ext cx="8553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Calendrier pour la dissémina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de la Bo</a:t>
            </a:r>
            <a:r>
              <a:rPr b="0" lang="de-DE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447920"/>
            <a:ext cx="79246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Planification et budgétisation des ateliers nationaux par les équipes pays, Juillet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Planification à transmettre au BIE et GTZ, 25 Juillet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Accord sur les activités avec le BIE et la GTZ, 1er Ao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ût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Ateliers nationaux d’une journée, Août/ Septem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Commentaires / Rapports sur les ateliers nationaux, au plus tard le 30 Septem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572314"/>
                </a:solidFill>
                <a:latin typeface="Gill Sans MT"/>
              </a:rPr>
              <a:t>Activités possibles pour le pilotage de la Bo</a:t>
            </a:r>
            <a:r>
              <a:rPr b="0" lang="de-DE" sz="3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ill Sans MT"/>
              </a:rPr>
              <a:t>Focus groupe d‘experts pour commenta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ill Sans MT"/>
              </a:rPr>
              <a:t>Consultations des partenaires du secteur de l‘éducation (par exemple réunions, questionnaires, etc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ill Sans MT"/>
              </a:rPr>
              <a:t>Activités de renforcement des capacités </a:t>
            </a:r>
            <a:r>
              <a:rPr b="0" lang="de-DE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mpliquant les décideurs, les départements/ directions en charge du développement curriculaire, et les instituts de formation des enseigna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ill Sans MT"/>
              </a:rPr>
              <a:t>Test de certaines parties/ sections de la Bo</a:t>
            </a:r>
            <a:r>
              <a:rPr b="0" lang="de-DE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 dans les processus de développement du curricul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ill Sans MT"/>
              </a:rPr>
              <a:t>Le choix de plusieurs activités de pilotage est possible, d‘autres suggestions d‘activités sont également les bienvenues…. garder de vue les contraintes de temps et budgétai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Calendrier de la phase de pilotage de la Bo</a:t>
            </a:r>
            <a:r>
              <a:rPr b="0" lang="de-DE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îte à outi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7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Lettre d‘information sur le suivi et la phase de pilotage aux Ministres, 03 Juillet 2009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Développement d‘instructions détaillées pour la phase de pilotage, mi-Juillet 2009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Planification et budgétisation des activités au niveau des pays, Juillet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Planification à transmettre au BIE et à la GTZ au plus tard le 25 Juillet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Accord avec le BIE et la GTZ sur les activités au plus tard le 1er Ao</a:t>
            </a:r>
            <a:r>
              <a:rPr b="0" lang="de-DE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ût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Début des préparatifs des activités par les équipes pays au plus tard en début Ao</a:t>
            </a:r>
            <a:r>
              <a:rPr b="0" lang="de-DE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ût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Lancement des activités dès réception de la version révisée de la Bo</a:t>
            </a:r>
            <a:r>
              <a:rPr b="0" lang="de-DE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, vers mi-Août </a:t>
            </a: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ill Sans MT"/>
              </a:rPr>
              <a:t>Rapports des résultats du pilotage de la Bo</a:t>
            </a:r>
            <a:r>
              <a:rPr b="0" lang="de-DE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îte à outils, au plus tard le 30 Septembre 2009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Critères d‘identification et de sélection des pays pil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7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3 langues doivent 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être représenté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3 régions doivent 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être couver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6 semaines de travail pour le pilotage et la préparation des rapport de résult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Disponibilité et engagement des équipes de mi-Ao</a:t>
            </a:r>
            <a:r>
              <a:rPr b="0" lang="de-DE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ût à fin Septembre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Disponibilité des équipes pays du 12 au 16 Octobre 2009 (Séminaire international de Frankfur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Présence, engagement et disponibilité de Bureaux UNES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Engagement des ministè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Bonnie Han</cp:lastModifiedBy>
  <dcterms:modified xsi:type="dcterms:W3CDTF">2009-06-25T13:56:33Z</dcterms:modified>
  <cp:revision>33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