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310A-D8F2-4E53-A456-B0DA420BB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8CFE-5862-4069-A4F9-074FC543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B2B3-0D95-4BD6-BD33-8B24D8229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7E7F-7097-4560-9B36-890ED3509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26A5-03F2-4B8C-A127-D375D67C3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4FA7-87A0-4A9A-940B-BF1EE3C0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3CB3B-8328-4152-A924-A8D2FCBB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74EC-36C7-460D-9335-93380E32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79DC-6C96-409C-898B-846BB077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3A0C-E54B-4629-8F7B-CEC1879F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CD18-CF47-46A6-BD5C-F39491E8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4B10-CBA0-44D1-A3A7-D4E712DB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744B-5AB6-40A0-9867-04C8547B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0BC5-0641-4334-AF7D-56BA0227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A004-4CEB-4C3F-85D0-BE484394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70AC-4710-4D4F-A89D-44667C184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D5B3-B347-4EAF-AEA0-E7A37CA3B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E4A82-E573-4BCC-84EE-4AE32C9F2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2D04D-041E-49FA-9A39-E42A3A61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1563E-13C7-4821-9BE9-F49927A6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70344-FA11-457C-9509-C80AFD48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0A110-BFC3-4374-9DAC-09777474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C6CC-BC70-4231-9206-B53965FE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C9C2C-94D3-41FE-8B21-9D950949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65C18-FE52-4090-9243-A975C74D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EEACE-DBA8-42FA-99D3-85F1E871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EA64A-C28F-4A85-8F71-52356569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D2D4E-1A2A-4FA3-B553-18CD1A32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A090C-5192-47E5-BE96-6BB78AFD8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FA9FD-65E5-404E-A1AB-0AAEEA036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731E2-B22D-494E-94A4-7EE15D015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C1031-3899-4048-B472-6D705B71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FE34E-5804-48F2-814C-E08219FB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E6D4-4688-4E36-B410-D6C326A1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E1C57-3A10-4475-9283-4A138FA2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64979-666A-4DE5-B486-30163C4D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AF8A4-1959-4258-98A7-AB9104E6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B5EA6-553B-4E7F-90F9-8AA58BED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D4D43-9792-4FB9-BAB8-EC49D422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58FE3-372C-449E-9EFE-67C46DAE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83CB7-8C4E-404C-9FB0-5F0C8028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F3722-13DD-4C23-A03C-AC12D4689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59C20-5106-469F-B46B-0618DA812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F613F-8D6C-46D5-B168-1046ED1D8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A373-9241-4100-BDAF-DA04D5DB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422B4-E3CA-489D-8799-0ED077D3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E6A5B-08E4-46F3-B12B-FCA4E99E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6FF39-A78E-462D-A035-1C61E1CF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458F2-EDB9-4BB4-A649-B3F1AD3A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45A0C-77C7-4FD2-8AFF-0B31F1F1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F85FC-5962-4E22-A41D-2A6263D7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154C1-0FBC-488B-B59C-D8D266E1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FD33A-8203-4451-B6C2-775F6516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E07D7-700C-4252-A542-B79E0E91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63FCC-3951-4D46-9823-CA5A2F688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6897-F7A5-46CD-B9FB-6B82ADBA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F3233-B9FF-4555-95B2-AD53029E2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84C88-E535-446E-ADD1-FEF688D87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D076C-13B9-4FD0-8CEF-5388E687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48D45-98EC-4978-B970-6183446E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F5D83-E61B-4862-9037-B164E58C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EC5C0-3FDE-4756-8AA3-6422E276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32A79-31AB-4925-9739-7A5BCDF0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6AAD3-13D0-448E-9D22-50B4B05B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41559-FDD2-4AA8-9CBF-53FE9021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2AE38-90A6-4787-B9B4-40A93C5E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CA28-D8A4-44D1-A354-1EF760BE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1B1AE-2784-45A7-BE7E-D32080EA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BFED6-B106-4179-B9C6-F87DB9F0D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C5C31-396C-404A-94B5-F70B6AEE4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19829-1F06-4AA2-B42C-A109655DE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4C8C6-F47E-4674-AF76-596E991D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43E5F-9455-4A07-8D2E-32F843CE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6B4F4-01E7-4D35-8737-F412DD7F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B4CC5-00F0-4B11-B31B-3B4793B9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0F554-EB31-4890-BFC2-AB0A8587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048F0-4B2F-4AA4-8802-400C1BA8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74C9-2758-41B7-B442-C0516826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41D46-B4D9-4A98-B667-792DC633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CF306-D885-4978-88E2-1D1E7D53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F2952-23C2-42A5-9370-8AA38143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C813F-44EE-4435-9C0F-11B783287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B2F3C-3579-4FF2-89C4-93A9F49AE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4EC9-9971-46A4-AE8E-2984D285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1C6F-FFF3-4162-B9EE-E41394C35E1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60FE-A0B9-416A-B398-76B13CED830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39BF-B60C-42A9-A6B8-D4DB6893D7F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A39F-0740-4F1B-ABA7-0F00276C856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900B-FDC9-45E1-B599-A134C698B59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43A0-A462-4A85-8D8B-E5386300B99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1E57-74AB-490A-965D-1681DDC7DC3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19320" y="1447920"/>
            <a:ext cx="763560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572314"/>
                </a:solidFill>
                <a:latin typeface="Gill Sans MT"/>
              </a:rPr>
              <a:t>«Compétences pour vivre et travailler au 21ème siècle : une bo</a:t>
            </a:r>
            <a:r>
              <a:rPr b="1" i="1" lang="en-GB" sz="2800" spc="-1" strike="noStrike">
                <a:solidFill>
                  <a:srgbClr val="572314"/>
                </a:solidFill>
                <a:latin typeface="Arial"/>
                <a:ea typeface="ＭＳ Ｐゴシック"/>
              </a:rPr>
              <a:t>î</a:t>
            </a:r>
            <a:r>
              <a:rPr b="1" i="1" lang="en-GB" sz="2800" spc="-1" strike="noStrike">
                <a:solidFill>
                  <a:srgbClr val="572314"/>
                </a:solidFill>
                <a:latin typeface="Gill Sans MT"/>
                <a:ea typeface="ＭＳ Ｐゴシック"/>
              </a:rPr>
              <a:t>te </a:t>
            </a:r>
            <a:r>
              <a:rPr b="1" i="1" lang="en-GB" sz="2800" spc="-1" strike="noStrike">
                <a:solidFill>
                  <a:srgbClr val="572314"/>
                </a:solidFill>
                <a:latin typeface="Arial"/>
                <a:ea typeface="ＭＳ Ｐゴシック"/>
              </a:rPr>
              <a:t>à</a:t>
            </a:r>
            <a:r>
              <a:rPr b="1" i="1" lang="en-GB" sz="2800" spc="-1" strike="noStrike">
                <a:solidFill>
                  <a:srgbClr val="572314"/>
                </a:solidFill>
                <a:latin typeface="Gill Sans MT"/>
                <a:ea typeface="ＭＳ Ｐゴシック"/>
              </a:rPr>
              <a:t> outils pour le d</a:t>
            </a:r>
            <a:r>
              <a:rPr b="1" i="1" lang="en-GB" sz="2800" spc="-1" strike="noStrike">
                <a:solidFill>
                  <a:srgbClr val="572314"/>
                </a:solidFill>
                <a:latin typeface="Arial"/>
                <a:ea typeface="ＭＳ Ｐゴシック"/>
              </a:rPr>
              <a:t>é</a:t>
            </a:r>
            <a:r>
              <a:rPr b="1" i="1" lang="en-GB" sz="2800" spc="-1" strike="noStrike">
                <a:solidFill>
                  <a:srgbClr val="572314"/>
                </a:solidFill>
                <a:latin typeface="Gill Sans MT"/>
                <a:ea typeface="ＭＳ Ｐゴシック"/>
              </a:rPr>
              <a:t>veloppement des innovations curriculaires en Afrique</a:t>
            </a:r>
            <a:r>
              <a:rPr b="1" i="1" lang="en-GB" sz="2800" spc="-1" strike="noStrike">
                <a:solidFill>
                  <a:srgbClr val="572314"/>
                </a:solidFill>
                <a:latin typeface="Gill Sans MT"/>
              </a:rPr>
              <a:t>»</a:t>
            </a:r>
            <a:br>
              <a:rPr sz="2800"/>
            </a:br>
            <a:r>
              <a:rPr b="0" lang="en-GB" sz="2000" spc="-1" strike="noStrike">
                <a:solidFill>
                  <a:srgbClr val="572314"/>
                </a:solidFill>
                <a:latin typeface="Gill Sans MT"/>
              </a:rPr>
              <a:t>Atelier international – Nairobi (Kenya), 22-26 Juin 2009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294920" y="441972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320e04"/>
                </a:solidFill>
                <a:latin typeface="Gill Sans MT"/>
              </a:rPr>
              <a:t>Prochaines étap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0" name="Picture 2" descr="BIE-anglais"/>
          <p:cNvPicPr/>
          <p:nvPr/>
        </p:nvPicPr>
        <p:blipFill>
          <a:blip r:embed="rId1"/>
          <a:stretch/>
        </p:blipFill>
        <p:spPr>
          <a:xfrm>
            <a:off x="1295280" y="0"/>
            <a:ext cx="1906560" cy="9907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bmz-en-rgb"/>
          <p:cNvPicPr/>
          <p:nvPr/>
        </p:nvPicPr>
        <p:blipFill>
          <a:blip r:embed="rId2"/>
          <a:stretch/>
        </p:blipFill>
        <p:spPr>
          <a:xfrm>
            <a:off x="3733920" y="0"/>
            <a:ext cx="1828800" cy="9684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gtzlogo-sv-primar-en-rgb"/>
          <p:cNvPicPr/>
          <p:nvPr/>
        </p:nvPicPr>
        <p:blipFill>
          <a:blip r:embed="rId3"/>
          <a:stretch/>
        </p:blipFill>
        <p:spPr>
          <a:xfrm>
            <a:off x="5486400" y="0"/>
            <a:ext cx="1941480" cy="10666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untitled23"/>
          <p:cNvPicPr/>
          <p:nvPr/>
        </p:nvPicPr>
        <p:blipFill>
          <a:blip r:embed="rId4"/>
          <a:stretch/>
        </p:blipFill>
        <p:spPr>
          <a:xfrm>
            <a:off x="7477200" y="0"/>
            <a:ext cx="1228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"/>
          <p:cNvGraphicFramePr/>
          <p:nvPr/>
        </p:nvGraphicFramePr>
        <p:xfrm>
          <a:off x="1066680" y="304920"/>
          <a:ext cx="8077320" cy="6589440"/>
        </p:xfrm>
        <a:graphic>
          <a:graphicData uri="http://schemas.openxmlformats.org/drawingml/2006/table">
            <a:tbl>
              <a:tblPr/>
              <a:tblGrid>
                <a:gridCol w="5867640"/>
                <a:gridCol w="2209680"/>
              </a:tblGrid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tivit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i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apports des séminaires de Kigali, Genève et Nairo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i-Juillet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ettre d‘information aux Ministres de l‘Education sur les activités du proj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 Juillet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inalisation de la Bo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îte à outils pour la phase de pilotage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 Ecriture finale par le groupe d’experts/ représentants des pays pilo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 Réunion de l‘équipe éditoriale à Genè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Juillet à mi-Ao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ût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 et 5 Ao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ût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issémination de la Bo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îte à outils dans tous les pays particip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fication et budgétisation des ateliers nationaux par les équipes p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Planification à transmettre au BIE et à la GT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Accord sur les activités avec le BIE et la GT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Ateliers nationaux d’une journée dans les pay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Rapports sur les ateliers nationaux à transmettre au BIE et à la GT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Juillet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5 Juillet au 1er Ao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ût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o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ût/ Septembre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0 Septembre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990720" y="0"/>
          <a:ext cx="8153280" cy="7016760"/>
        </p:xfrm>
        <a:graphic>
          <a:graphicData uri="http://schemas.openxmlformats.org/drawingml/2006/table">
            <a:tbl>
              <a:tblPr/>
              <a:tblGrid>
                <a:gridCol w="5943600"/>
                <a:gridCol w="2209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tivit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i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ilotage dans les 3 pays sélectionnés (inclus la dissémina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Gill Sans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fication et budgétisation des activit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Planification à transmettre au BIE et à la GT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Accord sur les activités avec le BIE et la GTZ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Début des préparatifs des activités par les p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Démarrage des activités de pilo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 Rapports sur les résultats du pilo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Juillet 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5 Juillet 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er Ao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ût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 1er Ao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ût à mi-Août 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ppr. Mi Ao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û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0 Septembre 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inalisation de la Bo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îte à outils par l’équipe éditori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Recueil des commentaires du pilotage et de la dissé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Préparation de la version finale de la Bo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îte à outil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eptembre/Octobre 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éminaire international de Frankf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Planification conceptuelle / préparation du séminaire de Frankf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 Séminaire international pour finaliser la Bo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îte à outils et planification des possibles prochaines éta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eptembre/Octobre 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esigning et publication de la Bo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ill Sans MT"/>
                          <a:ea typeface="ＭＳ Ｐゴシック"/>
                        </a:rPr>
                        <a:t>îte à outils par le BIE et la GT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embre/ Décembre 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éparation d‘une nouvelle proposition de projet et mobilisation de fonds par le BIE, la GTZ et les Equipes p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embre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écembre 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Gill Sans MT"/>
              </a:rPr>
              <a:t>Autres activité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Finalisation, conception et publication de l’étude sur la pertinence des curricula pour la vie et le trav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0T13:43:03Z</dcterms:created>
  <dc:creator>Klaus Jens Jahn</dc:creator>
  <dc:description/>
  <dc:language>en-US</dc:language>
  <cp:lastModifiedBy>Temba</cp:lastModifiedBy>
  <dcterms:modified xsi:type="dcterms:W3CDTF">2009-06-25T15:13:02Z</dcterms:modified>
  <cp:revision>16</cp:revision>
  <dc:subject/>
  <dc:title>«Competencies for living and working  in the 21st century:   A capacity development toolkit for curriculum innovations in African Countries» International Workshop – Nairobi (Kenya), 22-26 June 2009</dc:title>
</cp:coreProperties>
</file>