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863-584D-4AA8-ABDD-3444C00B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439-F9D1-454A-8E76-532E1E3A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DD9-3E3C-4021-B22D-922DEB4E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339-98BB-4BF5-A931-A9E397CE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FBD-477C-4E1E-8FD8-F802BF78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D78-F573-4752-8487-486443B8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941-A909-4891-A1BB-622F2690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022-9D5D-4677-874D-CEF039FC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0CE-2B6B-4DFD-99D8-6FD01505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565-2192-4C47-BD74-CF96A30C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B2C-15E0-4512-B3DC-8075412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A85-8C47-48D1-AD62-3DC3AFF4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8638-8AE5-411F-BF09-437CAF449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a50021"/>
                </a:solidFill>
                <a:latin typeface="Plump MT"/>
              </a:rPr>
              <a:t>Cenários para a escola de amanh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50028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CDE, BIE e outros con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6491160"/>
            <a:ext cx="39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na Benavente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©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Maput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2. a re-escolarizaçã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esta perspectiva, partimos das “boas práticas” e procuramos refundar a escola que herdámos inscrevendo-a no centro das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2400" spc="-1" strike="noStrike">
                <a:solidFill>
                  <a:srgbClr val="a50021"/>
                </a:solidFill>
                <a:latin typeface="Arial"/>
              </a:rPr>
              <a:t>cenário 2A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u, noutra perspectiva procuramos tornar as escolas em centros de inteligência, mais autónomas, organizações “que aprendem”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2400" spc="-1" strike="noStrike">
                <a:solidFill>
                  <a:srgbClr val="a50021"/>
                </a:solidFill>
                <a:latin typeface="Arial"/>
              </a:rPr>
              <a:t>cenário 2B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5600" y="3727440"/>
            <a:ext cx="790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esta segunda família de cenários, partimos da escola que herdámos e orientamos mudanças qualitativas de modo deliberado: rompemos “tabus” da escola tradicional e partimos das inovações que apontam o caminho do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1062000"/>
            <a:ext cx="1782720" cy="200520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3. A des-escolarização: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ante das dificuldades da escola actual, acabamos com este modelo; seja propondo outras redes de aprendizagem (TIC, p. ex)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2400" spc="-1" strike="noStrike">
                <a:solidFill>
                  <a:srgbClr val="a50021"/>
                </a:solidFill>
                <a:latin typeface="Arial"/>
              </a:rPr>
              <a:t>cenário 3A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eja tornando a educação um bem submetido (como outros) às leis do mercad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2400" spc="-1" strike="noStrike">
                <a:solidFill>
                  <a:srgbClr val="a50021"/>
                </a:solidFill>
                <a:latin typeface="Arial"/>
              </a:rPr>
              <a:t>cenário 3B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95160" y="2468520"/>
            <a:ext cx="80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esta terceira família de cenários, considera-se que a escola que conhecemos é um modelo ultrapassado e que são precisas outras respostas:  dispositivos formais e informais de aprendizagem, ou então as leis do mercado (escolas de línguas, de informática, etc.) O Estado abandona o seu compromisso com a escola que se compra e se vende como qualquer outro b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0160" y="390600"/>
            <a:ext cx="1782720" cy="2004840"/>
          </a:xfrm>
          <a:prstGeom prst="downArrow">
            <a:avLst>
              <a:gd name="adj1" fmla="val 50000"/>
              <a:gd name="adj2" fmla="val 28115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01720" y="2630520"/>
            <a:ext cx="767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videntemente, estes cenários situam-se de modo muito diferente quanto ao acesso, à equidade e à qualidade da EPT, quanto ao estatuto dos professores e a todas as outras dimensões da vida educ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46040" y="233172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De que depende a nossa avaliaçã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da nossa visão da escola, das suas funções sociais e do seu papel no desenvolvimento sustentável, na luta contra a pobreza, na coesão social e na p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360" y="743040"/>
            <a:ext cx="791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ão são todos igualmente </a:t>
            </a:r>
            <a:r>
              <a:rPr b="1" lang="pt-PT" sz="2800" spc="-1" strike="noStrike">
                <a:solidFill>
                  <a:srgbClr val="a50021"/>
                </a:solidFill>
                <a:latin typeface="Arial"/>
              </a:rPr>
              <a:t>desejáveis e prováveis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2400" y="971640"/>
            <a:ext cx="20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Arial"/>
              </a:rPr>
              <a:t>Para deba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44640" y="3209760"/>
            <a:ext cx="732312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mo classificam os cenários de tipo 1 quanto a “desejável/indesejável” e “provável/improvável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orqu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7560" y="2432160"/>
            <a:ext cx="7111800" cy="90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96800" y="106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E os de tipo 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orqu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E os de tipo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orqu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Quais são então as consequências das vossas “previsõe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 desejável mais provável? Co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63840" y="701640"/>
            <a:ext cx="64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utros elementos para deb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8480" y="1413000"/>
            <a:ext cx="780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is as tendências que existem no vosso país para o reforço da escola tradi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7720" y="3017880"/>
            <a:ext cx="747864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 em relação aos cenários de          re-escolarizaçã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 em relação aos cenários de         des-escolarizaçã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15800" y="639720"/>
            <a:ext cx="8412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Que será necessário fazer desde já para alcançar cenários de tipo 2 – re-escolarizaçã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0840" y="2198520"/>
            <a:ext cx="804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Que priorid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 Que obstácul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 Quais são os “perigos” (dificuldades/   bloqueios) da situação escolar no vosso paí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 E as oportunid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3573000"/>
            <a:ext cx="813564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cenários são instrumentos estratégicos para reflectirmos, debatermos e orientarmos a ac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42236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26828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a50021"/>
                </a:solidFill>
                <a:latin typeface="Arial"/>
              </a:rPr>
              <a:t>O futuro não é uma fatalidade. Somos nós que o construímos a partir das tendências do presente.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71628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6364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na Benavent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aput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386028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 partir das vontades, das realidades, dos factos e das tendências que se podem observar no pre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422360"/>
            <a:ext cx="288720" cy="26208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341360"/>
            <a:ext cx="7921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s cenários são antecipações do futuro para podermos intervir em função da nossa “visão”, do que é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desejável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e do que é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ossível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005360"/>
            <a:ext cx="288720" cy="261720"/>
          </a:xfrm>
          <a:prstGeom prst="rightArrow">
            <a:avLst>
              <a:gd name="adj1" fmla="val 50000"/>
              <a:gd name="adj2" fmla="val 27579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1480" y="4400640"/>
            <a:ext cx="764712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Como resolver os problemas de acesso, de equidade e de qualidade educativa na educação para to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Que fazer com o insucesso e o abandono escol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6040" y="174132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a50021"/>
                </a:solidFill>
                <a:latin typeface="Arial"/>
              </a:rPr>
              <a:t>Para além das diferenças entre os nossos países há questões e desafios que são comu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95840" y="380880"/>
            <a:ext cx="1152360" cy="11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440" y="34513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Como orientar a mudanç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2997000"/>
            <a:ext cx="88930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De que se tr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De uma perspectiva para orientar e “pilotar” a mud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838080"/>
            <a:ext cx="1152360" cy="11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2060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a50021"/>
                </a:solidFill>
                <a:latin typeface="Arial"/>
              </a:rPr>
              <a:t>Os cen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A partir de qu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a realidade e dos diagnósticos que somos capazes de fazer, das tendências, das oportunidades, da nossa leitura do mundo, da avaliação das dinâmicas e das nossas esperanças e dos nossos desej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836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a50021"/>
                </a:solidFill>
                <a:latin typeface="Arial"/>
              </a:rPr>
              <a:t>Os cen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5800" y="2111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orquê e para quê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a agir, para tomar decisões, para fazer escolhas, para reflectir de modo descentrado sem estarmos sempre dominados (e só...) pelo imedi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836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a50021"/>
                </a:solidFill>
                <a:latin typeface="Arial"/>
              </a:rPr>
              <a:t>Os cen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17240" y="2108160"/>
            <a:ext cx="850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 status-qu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ter e reforçar as características da escola que herdá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elhorar sem mudança a nível da centralização e da burocracia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2400" spc="-1" strike="noStrike">
                <a:solidFill>
                  <a:srgbClr val="a50021"/>
                </a:solidFill>
                <a:latin typeface="Arial"/>
              </a:rPr>
              <a:t>cenário 1 A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rise de professores, indisciplina – a escola impossível de governar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2400" spc="-1" strike="noStrike">
                <a:solidFill>
                  <a:srgbClr val="a50021"/>
                </a:solidFill>
                <a:latin typeface="Arial"/>
              </a:rPr>
              <a:t>cenário 1B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8680" y="349200"/>
            <a:ext cx="599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a50021"/>
                </a:solidFill>
                <a:latin typeface="Arial"/>
              </a:rPr>
              <a:t>Os seis cenários da OCDE organizados em “três famíli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5920" y="41814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esta primeira família de cenários, partimos do que herdámos e procuramos melhorar sem grandes mudanças: consegue-se... ou n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4320" y="1062000"/>
            <a:ext cx="1782720" cy="200520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9:01:08Z</dcterms:created>
  <dc:creator>Jean</dc:creator>
  <dc:description/>
  <dc:language>en-US</dc:language>
  <cp:lastModifiedBy>p_decastro</cp:lastModifiedBy>
  <dcterms:modified xsi:type="dcterms:W3CDTF">2008-04-15T08:26:16Z</dcterms:modified>
  <cp:revision>54</cp:revision>
  <dc:subject/>
  <dc:title>Les scénarios pour l’école de demain</dc:title>
</cp:coreProperties>
</file>